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9D33-7753-485A-A8C6-CAC8ACB99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censing should be judged under the rule of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inction between economic monopolies and "legal monopoly"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o not give patentee the ability to raise price above competitive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ifferentiate products, which can reduce avenues for co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cing above marginal cost does not show market power in IP markets because marginal costs are usually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censing should be judged under the rule of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inction between economic monopolies and "legal monopoly"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o not give patentee the ability to raise price above competitive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ifferentiate products, which can reduce avenues for co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cing above marginal cost does not show market power in IP markets because marginal costs are usually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censing should be judged under the rule of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inction between economic monopolies and "legal monopoly"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o not give patentee the ability to raise price above competitive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ifferentiate products, which can reduce avenues for co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cing above marginal cost does not show market power in IP markets because marginal costs are usually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s enjoy statutory presumption of validity; th4 clear and convincing evidenc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imposes duty to disclose everything that is reasonably within power of the appli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reps about prior art difficult to form the basis of Walker Process cl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must be invalidated by fraud; if it is valid but unenforceable no Walker Process case because nexus to injury to competition is se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 to competition; (i) firm has market power and then procures a related patent or a patent in a complementary market as an entry deterring device; (ii) patent conveyed market power or dangerous probability of such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 Cy case-Section 5 violation through inequitable conduct, lower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issues; multi-patent products; fraud caused broader patent but not issuance of patent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R rules apply to acquisitions including exclusive licenses, and exclusive territories and/or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R rules apply to acquisitions including exclusive licenses, and exclusive territories and/or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xclusive acquired in related patent; could forestall potential competition, perpetuate monop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reshold issue; what is monopolist acquires patent that is superior, creating a new monopoly; trans is a 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ven non-exclusives to relatd tech pose risks given the head start is might have; risks must be weighed against chilling 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f acquirer gains monopoly power after acquisition; lawful, time of suit doct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rant-back requires licensee to convey back to the original patentee rights under any improvement patent that the licensee might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xclusive grant-back may preserve monopoly power and discourage 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nopolist can argue that their original license may have brought the inventor to the field; prohibiting exclusive grant-backs will chill licensing as monopolists will be less willing to license thei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f improvement is subservient to initial pa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irst element; probable caus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f suit succeeds, enjoys antitrust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f it does not, often still enjoys antitrust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ery difficult to satisfy this standard with complex areas of patent law that involve close questions (ie. patent unenforceable due to misuse, infring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y areas; what if infringement plaintiff ought to have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no infrin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ny IP lawyers think patent must be invalid for a sham litigation claim, not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wner of IP must provide notices to potential infringers to cease and desist to prove willful infringement; as such, threat letter are a necessary step before litigation if f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blication is probably ok since customers may become guilty of contributory infringement if they continue to deal with the infringer; if claim is not objectively baseless, this is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n banc 10th Circuit panel said threats and publicity not immune under state tort law; Federal Circuit in Zen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s case said P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wo cases at district cour t level rejected Noerr protection for judicial sett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wner of IP must provide notices to potential infringers to cease and desist to prove wilful infringement; as such, threat letter are a necessary step before litigation if f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blication is probably ok since customers may become guilty of contributory infringement if they continue to deal with the infringer; if claim is not objectively baseless, this is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n banc 10th Circuit panel said threats and publicity not immune under state tort law; Federal Circuit in Zen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s case said P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wo cases at district cour t level rejected Noerr protection for judicial sett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wner of IP must provide notices to potential infringers to cease and desist to prove wilful infringement; as such, threat letter are a necessary step before litigation if f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blication is probably ok since customers may become guilty of contributory infringement if they continue to deal with the infringer; if claim is not objectively baseless, this is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n banc 10th Circuit panel said threats and publicity not immune under state tort law; Federal Circuit in Zen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s case said P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wo cases at district cour t level rejected Noerr protection for judicial sett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hrysl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parties compete but cannot product improvements without cross-licen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improvements create a new market? not a horizontal arran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improvements are merely incremental; but if license restricted to improvements hard to say they are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atent could be of dubious validity or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icensee could have entered the market without the lic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icensee chose not to, less costly, to collude through a license, than to comp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ale doctrine; any special rights are exhausted after patented product is sold; can't manufacture the product, sell it and stipulate the resale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tyhl- additive for gasoline did not give the right to set sale price of gas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greements that have been uph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lute quantity restr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pecifying higher royalty if production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ticompetitive if patent is of dubious validity or alternative technologies are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numerous forms; simple cross-license where everybody gives the others a license to use their present IP; rights may be assigned to a licensor who acts as a trustee; holding co; can be exclusive or non-excl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pooling that is exclusive will deter entry; requiring compulsory licensing creates a free ri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s that have developed a common tech should be able to deny it to others unless there is real harm t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it Tech; patent pool to monopolize the market for laser eye surgery; key shared fees from joint venture, blocking issue could be resolved through cross-lic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eperate licensees negotiated territorial divisions amongst themselves; could be per se il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eperate licensees negotiated territorial divisions amongst themselves; could be per se il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ical free r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term relationship needed in high 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of technological lea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ling licen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depart from per se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 Act does not speak to injury in tied produc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depart from per se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 Act does not speak to injury in tied produc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urts have inferred market power from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Jeff. Parish most courst have declined to presume market power from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urts have inferred market power from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Jeff. Parish most courts have declined to presume market power from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5720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3360" y="-12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34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80" cy="2667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228600" y="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Garamond"/>
              </a:rPr>
              <a:t>Constantine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i="1" lang="en-US" sz="1500" spc="-1" strike="noStrike">
                <a:solidFill>
                  <a:srgbClr val="000000"/>
                </a:solidFill>
                <a:latin typeface="Garamond"/>
              </a:rPr>
              <a:t>Part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956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0960" y="9144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29720" y="6610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6D25-F2E0-4D66-927E-77A5B6657431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47160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03360" y="-121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3340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0" y="14400"/>
            <a:ext cx="476280" cy="26676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399960" y="0"/>
            <a:ext cx="2362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cc0d2"/>
                </a:solidFill>
                <a:latin typeface="Garamond"/>
              </a:rPr>
              <a:t>Constantine </a:t>
            </a:r>
            <a:r>
              <a:rPr b="0" i="1" lang="en-US" sz="1700" spc="-1" strike="noStrike">
                <a:solidFill>
                  <a:srgbClr val="9cc0d2"/>
                </a:solidFill>
                <a:latin typeface="Times New Roman"/>
              </a:rPr>
              <a:t>&amp; </a:t>
            </a:r>
            <a:r>
              <a:rPr b="0" i="1" lang="en-US" sz="1700" spc="-1" strike="noStrike">
                <a:solidFill>
                  <a:srgbClr val="9cc0d2"/>
                </a:solidFill>
                <a:latin typeface="Garamond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956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80960" y="9144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0" y="2844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0" y="0"/>
            <a:ext cx="9144000" cy="688644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0" y="48564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603360" y="-12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33404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228600" y="14400"/>
            <a:ext cx="3124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aramond"/>
              </a:rPr>
              <a:t>Constantine Cann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99564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0960" y="9288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 flipH="1">
            <a:off x="8744040" y="6627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C343-77D8-4390-967E-DBF1DFA53F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762120" y="318960"/>
            <a:ext cx="266688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0" spc="-1" strike="noStrike">
                <a:solidFill>
                  <a:srgbClr val="ddf2ff"/>
                </a:solidFill>
                <a:latin typeface="ChelthmITC Bk BT"/>
              </a:rPr>
              <a:t>C</a:t>
            </a:r>
            <a:endParaRPr b="0" lang="en-US" sz="4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257800" y="404640"/>
            <a:ext cx="350532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0" spc="-1" strike="noStrike">
                <a:solidFill>
                  <a:srgbClr val="ddf2ff"/>
                </a:solidFill>
                <a:latin typeface="ChelthmITC Bk BT"/>
              </a:rPr>
              <a:t>C</a:t>
            </a:r>
            <a:endParaRPr b="0" lang="en-US" sz="4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9907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Pj01784600000[1]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57200" y="91440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990720"/>
            <a:ext cx="82296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n Overview of the Antitrust/I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s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Jeffrey I. Sh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ner, Constantine Ca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 York City/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shinder@constantinecann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ation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-House Counsel Forum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rmaceutical Antit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24-25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7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nopoly in and of itself is not illeg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ing monopoly power by being better is law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w places constraints on the behavior of a monopolist to ensure that it is not improperly maintaining its monopoly power or using its monopoly power in one market to monopolize or attempt to monopolize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w constrains improper attempts to acquire monopoly power by firms who are dangerously close to acquiring such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7160" y="7621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2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87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of Monopo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 of monopoly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power achieved or maintained by exclusionary or anticompetitive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to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744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2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600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to monopo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intent to monopolize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ous probability of monopo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piracy to monopo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7440" y="77328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ayton Act §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e that prohibits mergers that create or enhance or facilitate the exercise of market power in a relevant 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looking analysis -- incipiency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r cannot “substantially lessen competition” in a relevant 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Antitrust/IP Intersect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ived tension between Antitrust &amp;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1930- IP trumps Antitrust; early cases gave patentees wide la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-1970s-Antitrust Comes Back; Supreme Court retreats from earlier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-Present; IP Again Trumps Antitru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8377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Antitrust/IP Inters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 DOJ/FTC Guidelines for the Licensing of Intellectu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should be treated like other forms of property under the antitrust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rights do not necessarily create market power in a relevant antitrus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ing is generally pro-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Antitrust/IP Inters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P the same as other property for antitrust purposes?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to exclude derives from US Con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to exclude is designed to encourage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to exclude is abso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can be used simultaneously by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1600" y="2133720"/>
            <a:ext cx="8534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n Obtaining a Patent Violate Section 2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btained through fraud on the PTO and enforced against alleged infri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riety defined by Patent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lements of Section 2 violation must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42520" y="1905120"/>
            <a:ext cx="85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ud on the PTO-Walker Process Cla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representation or omission of material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t to dece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ity: patent would not have issued but for misrepresentation or o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lements of Section 2 claim: monopolization or dangerous probability of monopo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838080"/>
            <a:ext cx="853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atent Acquis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n acquiring a patent violate the antitrust la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cquisitions can violate Section 2 of the Sherman Act and Section 7 of the Clayt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monopolization or dangerous probability of monopolization for Section 2 cl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threatened substantial lessening of competition for Section 7 cl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ole of Antit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consumer wel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s policy that competition benefits consumers by ensur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tive to inno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0388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2438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ing the antitrust risks of potential IP acqui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cquiring firm have market pow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cquisition involve “exclusive right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cquisition concern rights in patents related to the subject matter of the monopo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--Patent Acqui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atent Acquis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irm with market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s exclusive rights to related patents: serious antitrus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s non-exclusive rights to related patents: likely permissible despite risks to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s exclusive rights to unrelated patents: no antitrus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8377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Enforcing IP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n a firm violate the antitrust laws by attempting to enforce its IP ri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nforcement is a “sham” it can violate Section 2 of the Sher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“sham” enforcement is d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ectiv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can violate Section 1 of the Sher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Enforcing IP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 for Sham Litiga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fessional Real Estate Inv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 must be objectively baseless … no reasonable litigant could realistically expect success on the merits”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 must conceal an attempt to harm ri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rong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based on fraudulently obtained 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based on valid patents that are known to be un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based on valid patent where infringement plaintiff knew there was no infrin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based on clearly incorrect legal the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Enforcing IP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immunity conferr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fessional Real Estate Inves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d to certain pre and post-litigation condu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 to enforce IP: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 of infringement in the marketplace:  Probably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 and publication where litigation is never initiated: Mayb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lements: Open question, probably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Enforcing IP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owner of a lawfully-acquired patents ever violate Section 2 of the Sherman Act by refusing to lice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uthorities say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Refusals to De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 Case Law &amp; Enforcement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age Technical (9th Cir.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wful patent creates rebuttable presumption that refusal was lawful, but presumption was rebutted in that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ero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fusal to license immune from antitrust, with three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ker Process claim (i.e., patent was fraudulently obtai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m litig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egal t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Refusals to De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MCj02155410000[1]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olerance for restraints involving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P restraints have an ancillary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 Act commands a tolerance for such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es are vertical re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Question: Does the license have a horizontal asp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the parties to the agreement have been actual or likely potential competitors in the absence of the licen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relationship could be found in product, technology, or innovation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cense is purely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creates no additional complications for defen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often provides compelling just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ing claims may be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Key Antitrust Stat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4680" y="1905120"/>
            <a:ext cx="8447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rman Act Sec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rman Act Sec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yton Act Section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C Act Secti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rman Act § 1: Licenses Affecting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of the license does not raise antitrust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license requires the licensor to sell at prices set by licens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ssible if patent covers all or a significant portion of resulting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ted States v. General Electr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26 Supreme Court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159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rman Act § 1: Licenses Affecting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 stands but has been limited to its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 Mate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clined to ext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ross-licensing arrangement in which resale price imposed on sub-licens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ted States Gyp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clined to ext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icenses with resale price restrictions imposed on every producer in th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imitation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limitation beyond first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restraint extends beyond the pa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ing prices of unpatented goods produced by patente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Output Restr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ked output limitations are illeg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limitations in vertical patent licenses are treated under the rule of reason and are generally law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violate the antitrust law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s unpatented product made with a patente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icenses used as a façade by competing licensors and/or licensees to limit output and fix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MCj03703620000[1]" descr=""/>
          <p:cNvPicPr/>
          <p:nvPr/>
        </p:nvPicPr>
        <p:blipFill>
          <a:blip r:embed="rId1"/>
          <a:stretch/>
        </p:blipFill>
        <p:spPr>
          <a:xfrm>
            <a:off x="5334120" y="518148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Sherman Act § 1: Patent Pools/Cross-Licens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titrust recognizes that they are often pro-compet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P Guidelines explain why they may be pro-compet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grate complementary techn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e transaction co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r blocking pos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oid costly infringement 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oss-licensing without restrictions almost always lawfu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Sherman Act § 1: Patent Pools/Cross-Licens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y can violate the antitrust laws w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l/cross-license includes restraints on price or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l/cross-license is used to exclude riv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l/cross-license includes agreement not to engage in certain types of re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22080" y="4051080"/>
            <a:ext cx="3604680" cy="2552040"/>
            <a:chOff x="5122080" y="4051080"/>
            <a:chExt cx="3604680" cy="2552040"/>
          </a:xfrm>
        </p:grpSpPr>
        <p:grpSp>
          <p:nvGrpSpPr>
            <p:cNvPr id="152" name=""/>
            <p:cNvGrpSpPr/>
            <p:nvPr/>
          </p:nvGrpSpPr>
          <p:grpSpPr>
            <a:xfrm>
              <a:off x="5122080" y="4051080"/>
              <a:ext cx="1963080" cy="2552040"/>
              <a:chOff x="5122080" y="4051080"/>
              <a:chExt cx="1963080" cy="25520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5122080" y="4163040"/>
                <a:ext cx="1240560" cy="2413800"/>
                <a:chOff x="5122080" y="4163040"/>
                <a:chExt cx="1240560" cy="24138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05640" y="6419160"/>
                  <a:ext cx="657000" cy="157680"/>
                </a:xfrm>
                <a:custGeom>
                  <a:avLst/>
                  <a:gdLst/>
                  <a:ahLst/>
                  <a:rect l="l" t="t" r="r" b="b"/>
                  <a:pathLst>
                    <a:path w="645" h="173">
                      <a:moveTo>
                        <a:pt x="385" y="0"/>
                      </a:moveTo>
                      <a:lnTo>
                        <a:pt x="327" y="6"/>
                      </a:lnTo>
                      <a:lnTo>
                        <a:pt x="264" y="13"/>
                      </a:lnTo>
                      <a:lnTo>
                        <a:pt x="222" y="22"/>
                      </a:lnTo>
                      <a:lnTo>
                        <a:pt x="192" y="18"/>
                      </a:lnTo>
                      <a:lnTo>
                        <a:pt x="145" y="19"/>
                      </a:lnTo>
                      <a:lnTo>
                        <a:pt x="81" y="26"/>
                      </a:lnTo>
                      <a:lnTo>
                        <a:pt x="41" y="36"/>
                      </a:lnTo>
                      <a:lnTo>
                        <a:pt x="16" y="49"/>
                      </a:lnTo>
                      <a:lnTo>
                        <a:pt x="4" y="60"/>
                      </a:lnTo>
                      <a:lnTo>
                        <a:pt x="0" y="79"/>
                      </a:lnTo>
                      <a:lnTo>
                        <a:pt x="9" y="91"/>
                      </a:lnTo>
                      <a:lnTo>
                        <a:pt x="24" y="103"/>
                      </a:lnTo>
                      <a:lnTo>
                        <a:pt x="46" y="113"/>
                      </a:lnTo>
                      <a:lnTo>
                        <a:pt x="75" y="123"/>
                      </a:lnTo>
                      <a:lnTo>
                        <a:pt x="110" y="130"/>
                      </a:lnTo>
                      <a:lnTo>
                        <a:pt x="200" y="138"/>
                      </a:lnTo>
                      <a:lnTo>
                        <a:pt x="442" y="158"/>
                      </a:lnTo>
                      <a:lnTo>
                        <a:pt x="645" y="173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5122080" y="4163040"/>
                  <a:ext cx="1012320" cy="977040"/>
                  <a:chOff x="5122080" y="4163040"/>
                  <a:chExt cx="1012320" cy="97704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5122080" y="4163040"/>
                    <a:ext cx="1012320" cy="976680"/>
                    <a:chOff x="5122080" y="4163040"/>
                    <a:chExt cx="1012320" cy="976680"/>
                  </a:xfrm>
                </p:grpSpPr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5238000" y="4163040"/>
                      <a:ext cx="896400" cy="907920"/>
                      <a:chOff x="5238000" y="4163040"/>
                      <a:chExt cx="896400" cy="907920"/>
                    </a:xfrm>
                  </p:grpSpPr>
                  <p:grpSp>
                    <p:nvGrpSpPr>
                      <p:cNvPr id="158" name=""/>
                      <p:cNvGrpSpPr/>
                      <p:nvPr/>
                    </p:nvGrpSpPr>
                    <p:grpSpPr>
                      <a:xfrm>
                        <a:off x="5238000" y="4163040"/>
                        <a:ext cx="896400" cy="907920"/>
                        <a:chOff x="5238000" y="4163040"/>
                        <a:chExt cx="896400" cy="907920"/>
                      </a:xfrm>
                    </p:grpSpPr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5243760" y="4163040"/>
                          <a:ext cx="890640" cy="90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3" h="985">
                              <a:moveTo>
                                <a:pt x="697" y="85"/>
                              </a:moveTo>
                              <a:lnTo>
                                <a:pt x="774" y="0"/>
                              </a:lnTo>
                              <a:lnTo>
                                <a:pt x="796" y="1"/>
                              </a:lnTo>
                              <a:lnTo>
                                <a:pt x="816" y="5"/>
                              </a:lnTo>
                              <a:lnTo>
                                <a:pt x="835" y="14"/>
                              </a:lnTo>
                              <a:lnTo>
                                <a:pt x="849" y="24"/>
                              </a:lnTo>
                              <a:lnTo>
                                <a:pt x="860" y="35"/>
                              </a:lnTo>
                              <a:lnTo>
                                <a:pt x="869" y="52"/>
                              </a:lnTo>
                              <a:lnTo>
                                <a:pt x="873" y="75"/>
                              </a:lnTo>
                              <a:lnTo>
                                <a:pt x="872" y="96"/>
                              </a:lnTo>
                              <a:lnTo>
                                <a:pt x="63" y="985"/>
                              </a:lnTo>
                              <a:lnTo>
                                <a:pt x="0" y="917"/>
                              </a:lnTo>
                              <a:lnTo>
                                <a:pt x="697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5238000" y="5005440"/>
                          <a:ext cx="73440" cy="65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2">
                              <a:moveTo>
                                <a:pt x="3" y="3"/>
                              </a:moveTo>
                              <a:lnTo>
                                <a:pt x="21" y="0"/>
                              </a:lnTo>
                              <a:lnTo>
                                <a:pt x="38" y="7"/>
                              </a:lnTo>
                              <a:lnTo>
                                <a:pt x="52" y="15"/>
                              </a:lnTo>
                              <a:lnTo>
                                <a:pt x="62" y="25"/>
                              </a:lnTo>
                              <a:lnTo>
                                <a:pt x="69" y="42"/>
                              </a:lnTo>
                              <a:lnTo>
                                <a:pt x="71" y="59"/>
                              </a:lnTo>
                              <a:lnTo>
                                <a:pt x="68" y="69"/>
                              </a:lnTo>
                              <a:lnTo>
                                <a:pt x="55" y="72"/>
                              </a:lnTo>
                              <a:lnTo>
                                <a:pt x="37" y="71"/>
                              </a:lnTo>
                              <a:lnTo>
                                <a:pt x="25" y="65"/>
                              </a:lnTo>
                              <a:lnTo>
                                <a:pt x="14" y="57"/>
                              </a:lnTo>
                              <a:lnTo>
                                <a:pt x="7" y="48"/>
                              </a:lnTo>
                              <a:lnTo>
                                <a:pt x="1" y="31"/>
                              </a:lnTo>
                              <a:lnTo>
                                <a:pt x="0" y="15"/>
                              </a:lnTo>
                              <a:lnTo>
                                <a:pt x="3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1" name=""/>
                      <p:cNvGrpSpPr/>
                      <p:nvPr/>
                    </p:nvGrpSpPr>
                    <p:grpSpPr>
                      <a:xfrm>
                        <a:off x="5433480" y="4168080"/>
                        <a:ext cx="698760" cy="675000"/>
                        <a:chOff x="5433480" y="4168080"/>
                        <a:chExt cx="698760" cy="675000"/>
                      </a:xfrm>
                    </p:grpSpPr>
                    <p:grpSp>
                      <p:nvGrpSpPr>
                        <p:cNvPr id="162" name=""/>
                        <p:cNvGrpSpPr/>
                        <p:nvPr/>
                      </p:nvGrpSpPr>
                      <p:grpSpPr>
                        <a:xfrm>
                          <a:off x="5953320" y="4168080"/>
                          <a:ext cx="178920" cy="124200"/>
                          <a:chOff x="5953320" y="4168080"/>
                          <a:chExt cx="178920" cy="124200"/>
                        </a:xfrm>
                      </p:grpSpPr>
                      <p:sp>
                        <p:nvSpPr>
                          <p:cNvPr id="163" name=""/>
                          <p:cNvSpPr/>
                          <p:nvPr/>
                        </p:nvSpPr>
                        <p:spPr>
                          <a:xfrm flipV="1">
                            <a:off x="5953320" y="4168080"/>
                            <a:ext cx="109800" cy="1040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" name=""/>
                          <p:cNvSpPr/>
                          <p:nvPr/>
                        </p:nvSpPr>
                        <p:spPr>
                          <a:xfrm flipV="1">
                            <a:off x="6015960" y="4180680"/>
                            <a:ext cx="83520" cy="673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520" bIns="20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 flipV="1">
                            <a:off x="6004080" y="4196880"/>
                            <a:ext cx="118080" cy="954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" name=""/>
                          <p:cNvSpPr/>
                          <p:nvPr/>
                        </p:nvSpPr>
                        <p:spPr>
                          <a:xfrm flipV="1">
                            <a:off x="6053040" y="4230360"/>
                            <a:ext cx="79200" cy="54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7" name=""/>
                        <p:cNvGrpSpPr/>
                        <p:nvPr/>
                      </p:nvGrpSpPr>
                      <p:grpSpPr>
                        <a:xfrm>
                          <a:off x="5433480" y="4599720"/>
                          <a:ext cx="237960" cy="243360"/>
                          <a:chOff x="5433480" y="4599720"/>
                          <a:chExt cx="237960" cy="243360"/>
                        </a:xfrm>
                      </p:grpSpPr>
                      <p:sp>
                        <p:nvSpPr>
                          <p:cNvPr id="168" name=""/>
                          <p:cNvSpPr/>
                          <p:nvPr/>
                        </p:nvSpPr>
                        <p:spPr>
                          <a:xfrm flipV="1">
                            <a:off x="5433480" y="4731480"/>
                            <a:ext cx="81360" cy="860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240" bIns="39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9" name=""/>
                          <p:cNvSpPr/>
                          <p:nvPr/>
                        </p:nvSpPr>
                        <p:spPr>
                          <a:xfrm flipV="1">
                            <a:off x="5478120" y="4784400"/>
                            <a:ext cx="46800" cy="46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0" name=""/>
                          <p:cNvSpPr/>
                          <p:nvPr/>
                        </p:nvSpPr>
                        <p:spPr>
                          <a:xfrm flipV="1">
                            <a:off x="5496480" y="4669200"/>
                            <a:ext cx="174960" cy="1738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1" name=""/>
                          <p:cNvSpPr/>
                          <p:nvPr/>
                        </p:nvSpPr>
                        <p:spPr>
                          <a:xfrm flipV="1">
                            <a:off x="5581800" y="4599720"/>
                            <a:ext cx="89280" cy="80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840" bIns="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5122080" y="4704120"/>
                      <a:ext cx="542160" cy="43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1" h="475">
                          <a:moveTo>
                            <a:pt x="0" y="224"/>
                          </a:moveTo>
                          <a:lnTo>
                            <a:pt x="11" y="189"/>
                          </a:lnTo>
                          <a:lnTo>
                            <a:pt x="28" y="152"/>
                          </a:lnTo>
                          <a:lnTo>
                            <a:pt x="47" y="123"/>
                          </a:lnTo>
                          <a:lnTo>
                            <a:pt x="69" y="91"/>
                          </a:lnTo>
                          <a:lnTo>
                            <a:pt x="91" y="67"/>
                          </a:lnTo>
                          <a:lnTo>
                            <a:pt x="118" y="43"/>
                          </a:lnTo>
                          <a:lnTo>
                            <a:pt x="146" y="22"/>
                          </a:lnTo>
                          <a:lnTo>
                            <a:pt x="177" y="0"/>
                          </a:lnTo>
                          <a:lnTo>
                            <a:pt x="194" y="19"/>
                          </a:lnTo>
                          <a:lnTo>
                            <a:pt x="216" y="39"/>
                          </a:lnTo>
                          <a:lnTo>
                            <a:pt x="241" y="60"/>
                          </a:lnTo>
                          <a:lnTo>
                            <a:pt x="275" y="88"/>
                          </a:lnTo>
                          <a:lnTo>
                            <a:pt x="308" y="114"/>
                          </a:lnTo>
                          <a:lnTo>
                            <a:pt x="342" y="137"/>
                          </a:lnTo>
                          <a:lnTo>
                            <a:pt x="381" y="164"/>
                          </a:lnTo>
                          <a:lnTo>
                            <a:pt x="422" y="188"/>
                          </a:lnTo>
                          <a:lnTo>
                            <a:pt x="457" y="206"/>
                          </a:lnTo>
                          <a:lnTo>
                            <a:pt x="490" y="225"/>
                          </a:lnTo>
                          <a:lnTo>
                            <a:pt x="531" y="246"/>
                          </a:lnTo>
                          <a:lnTo>
                            <a:pt x="362" y="475"/>
                          </a:lnTo>
                          <a:lnTo>
                            <a:pt x="331" y="444"/>
                          </a:lnTo>
                          <a:lnTo>
                            <a:pt x="295" y="410"/>
                          </a:lnTo>
                          <a:lnTo>
                            <a:pt x="273" y="384"/>
                          </a:lnTo>
                          <a:lnTo>
                            <a:pt x="246" y="360"/>
                          </a:lnTo>
                          <a:lnTo>
                            <a:pt x="214" y="339"/>
                          </a:lnTo>
                          <a:lnTo>
                            <a:pt x="172" y="310"/>
                          </a:lnTo>
                          <a:lnTo>
                            <a:pt x="135" y="289"/>
                          </a:lnTo>
                          <a:lnTo>
                            <a:pt x="96" y="268"/>
                          </a:lnTo>
                          <a:lnTo>
                            <a:pt x="64" y="249"/>
                          </a:lnTo>
                          <a:lnTo>
                            <a:pt x="28" y="233"/>
                          </a:lnTo>
                          <a:lnTo>
                            <a:pt x="0" y="224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5488920" y="4930560"/>
                    <a:ext cx="1731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27">
                        <a:moveTo>
                          <a:pt x="169" y="0"/>
                        </a:moveTo>
                        <a:lnTo>
                          <a:pt x="145" y="10"/>
                        </a:lnTo>
                        <a:lnTo>
                          <a:pt x="123" y="24"/>
                        </a:lnTo>
                        <a:lnTo>
                          <a:pt x="103" y="41"/>
                        </a:lnTo>
                        <a:lnTo>
                          <a:pt x="84" y="61"/>
                        </a:lnTo>
                        <a:lnTo>
                          <a:pt x="62" y="86"/>
                        </a:lnTo>
                        <a:lnTo>
                          <a:pt x="49" y="106"/>
                        </a:lnTo>
                        <a:lnTo>
                          <a:pt x="32" y="133"/>
                        </a:lnTo>
                        <a:lnTo>
                          <a:pt x="18" y="162"/>
                        </a:lnTo>
                        <a:lnTo>
                          <a:pt x="5" y="192"/>
                        </a:lnTo>
                        <a:lnTo>
                          <a:pt x="0" y="227"/>
                        </a:lnTo>
                        <a:lnTo>
                          <a:pt x="25" y="220"/>
                        </a:lnTo>
                        <a:lnTo>
                          <a:pt x="45" y="210"/>
                        </a:lnTo>
                        <a:lnTo>
                          <a:pt x="71" y="196"/>
                        </a:lnTo>
                        <a:lnTo>
                          <a:pt x="93" y="176"/>
                        </a:lnTo>
                        <a:lnTo>
                          <a:pt x="115" y="153"/>
                        </a:lnTo>
                        <a:lnTo>
                          <a:pt x="132" y="129"/>
                        </a:lnTo>
                        <a:lnTo>
                          <a:pt x="145" y="105"/>
                        </a:lnTo>
                        <a:lnTo>
                          <a:pt x="157" y="75"/>
                        </a:lnTo>
                        <a:lnTo>
                          <a:pt x="165" y="51"/>
                        </a:lnTo>
                        <a:lnTo>
                          <a:pt x="167" y="24"/>
                        </a:lnTo>
                        <a:lnTo>
                          <a:pt x="169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5544000" y="4051080"/>
                <a:ext cx="1541160" cy="2552040"/>
                <a:chOff x="5544000" y="4051080"/>
                <a:chExt cx="1541160" cy="255204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5544000" y="4051080"/>
                  <a:ext cx="1541160" cy="2552040"/>
                  <a:chOff x="5544000" y="4051080"/>
                  <a:chExt cx="1541160" cy="255204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5866200" y="5806800"/>
                    <a:ext cx="905040" cy="796320"/>
                    <a:chOff x="5866200" y="5806800"/>
                    <a:chExt cx="905040" cy="796320"/>
                  </a:xfrm>
                </p:grpSpPr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27480" y="5824800"/>
                      <a:ext cx="743760" cy="530280"/>
                      <a:chOff x="6027480" y="5824800"/>
                      <a:chExt cx="743760" cy="53028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27480" y="5824800"/>
                        <a:ext cx="743760" cy="53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9" h="579">
                            <a:moveTo>
                              <a:pt x="193" y="0"/>
                            </a:moveTo>
                            <a:lnTo>
                              <a:pt x="256" y="15"/>
                            </a:lnTo>
                            <a:lnTo>
                              <a:pt x="205" y="130"/>
                            </a:lnTo>
                            <a:lnTo>
                              <a:pt x="158" y="225"/>
                            </a:lnTo>
                            <a:lnTo>
                              <a:pt x="128" y="295"/>
                            </a:lnTo>
                            <a:lnTo>
                              <a:pt x="119" y="325"/>
                            </a:lnTo>
                            <a:lnTo>
                              <a:pt x="121" y="349"/>
                            </a:lnTo>
                            <a:lnTo>
                              <a:pt x="132" y="366"/>
                            </a:lnTo>
                            <a:lnTo>
                              <a:pt x="155" y="383"/>
                            </a:lnTo>
                            <a:lnTo>
                              <a:pt x="186" y="401"/>
                            </a:lnTo>
                            <a:lnTo>
                              <a:pt x="219" y="413"/>
                            </a:lnTo>
                            <a:lnTo>
                              <a:pt x="264" y="427"/>
                            </a:lnTo>
                            <a:lnTo>
                              <a:pt x="307" y="434"/>
                            </a:lnTo>
                            <a:lnTo>
                              <a:pt x="360" y="438"/>
                            </a:lnTo>
                            <a:lnTo>
                              <a:pt x="408" y="434"/>
                            </a:lnTo>
                            <a:lnTo>
                              <a:pt x="456" y="427"/>
                            </a:lnTo>
                            <a:lnTo>
                              <a:pt x="509" y="416"/>
                            </a:lnTo>
                            <a:lnTo>
                              <a:pt x="527" y="420"/>
                            </a:lnTo>
                            <a:lnTo>
                              <a:pt x="534" y="424"/>
                            </a:lnTo>
                            <a:lnTo>
                              <a:pt x="537" y="434"/>
                            </a:lnTo>
                            <a:lnTo>
                              <a:pt x="530" y="454"/>
                            </a:lnTo>
                            <a:lnTo>
                              <a:pt x="523" y="465"/>
                            </a:lnTo>
                            <a:lnTo>
                              <a:pt x="533" y="470"/>
                            </a:lnTo>
                            <a:lnTo>
                              <a:pt x="606" y="457"/>
                            </a:lnTo>
                            <a:lnTo>
                              <a:pt x="623" y="461"/>
                            </a:lnTo>
                            <a:lnTo>
                              <a:pt x="633" y="468"/>
                            </a:lnTo>
                            <a:lnTo>
                              <a:pt x="637" y="480"/>
                            </a:lnTo>
                            <a:lnTo>
                              <a:pt x="630" y="490"/>
                            </a:lnTo>
                            <a:lnTo>
                              <a:pt x="617" y="498"/>
                            </a:lnTo>
                            <a:lnTo>
                              <a:pt x="601" y="508"/>
                            </a:lnTo>
                            <a:lnTo>
                              <a:pt x="613" y="515"/>
                            </a:lnTo>
                            <a:lnTo>
                              <a:pt x="644" y="512"/>
                            </a:lnTo>
                            <a:lnTo>
                              <a:pt x="670" y="515"/>
                            </a:lnTo>
                            <a:lnTo>
                              <a:pt x="695" y="524"/>
                            </a:lnTo>
                            <a:lnTo>
                              <a:pt x="724" y="537"/>
                            </a:lnTo>
                            <a:lnTo>
                              <a:pt x="729" y="546"/>
                            </a:lnTo>
                            <a:lnTo>
                              <a:pt x="728" y="559"/>
                            </a:lnTo>
                            <a:lnTo>
                              <a:pt x="715" y="568"/>
                            </a:lnTo>
                            <a:lnTo>
                              <a:pt x="689" y="572"/>
                            </a:lnTo>
                            <a:lnTo>
                              <a:pt x="647" y="575"/>
                            </a:lnTo>
                            <a:lnTo>
                              <a:pt x="600" y="572"/>
                            </a:lnTo>
                            <a:lnTo>
                              <a:pt x="547" y="576"/>
                            </a:lnTo>
                            <a:lnTo>
                              <a:pt x="512" y="579"/>
                            </a:lnTo>
                            <a:lnTo>
                              <a:pt x="445" y="575"/>
                            </a:lnTo>
                            <a:lnTo>
                              <a:pt x="411" y="568"/>
                            </a:lnTo>
                            <a:lnTo>
                              <a:pt x="361" y="559"/>
                            </a:lnTo>
                            <a:lnTo>
                              <a:pt x="279" y="556"/>
                            </a:lnTo>
                            <a:lnTo>
                              <a:pt x="0" y="474"/>
                            </a:lnTo>
                            <a:lnTo>
                              <a:pt x="34" y="276"/>
                            </a:lnTo>
                            <a:lnTo>
                              <a:pt x="193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34920" y="6222960"/>
                        <a:ext cx="11808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31">
                            <a:moveTo>
                              <a:pt x="0" y="0"/>
                            </a:moveTo>
                            <a:lnTo>
                              <a:pt x="60" y="29"/>
                            </a:lnTo>
                            <a:lnTo>
                              <a:pt x="86" y="29"/>
                            </a:lnTo>
                            <a:lnTo>
                              <a:pt x="117" y="31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5866200" y="5806800"/>
                      <a:ext cx="748440" cy="796320"/>
                      <a:chOff x="5866200" y="5806800"/>
                      <a:chExt cx="748440" cy="79632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5866200" y="5806800"/>
                        <a:ext cx="748440" cy="79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4" h="867">
                            <a:moveTo>
                              <a:pt x="265" y="0"/>
                            </a:moveTo>
                            <a:lnTo>
                              <a:pt x="383" y="23"/>
                            </a:lnTo>
                            <a:lnTo>
                              <a:pt x="377" y="50"/>
                            </a:lnTo>
                            <a:lnTo>
                              <a:pt x="364" y="81"/>
                            </a:lnTo>
                            <a:lnTo>
                              <a:pt x="351" y="108"/>
                            </a:lnTo>
                            <a:lnTo>
                              <a:pt x="333" y="139"/>
                            </a:lnTo>
                            <a:lnTo>
                              <a:pt x="313" y="168"/>
                            </a:lnTo>
                            <a:lnTo>
                              <a:pt x="293" y="193"/>
                            </a:lnTo>
                            <a:lnTo>
                              <a:pt x="280" y="229"/>
                            </a:lnTo>
                            <a:lnTo>
                              <a:pt x="258" y="279"/>
                            </a:lnTo>
                            <a:lnTo>
                              <a:pt x="235" y="324"/>
                            </a:lnTo>
                            <a:lnTo>
                              <a:pt x="226" y="340"/>
                            </a:lnTo>
                            <a:lnTo>
                              <a:pt x="221" y="358"/>
                            </a:lnTo>
                            <a:lnTo>
                              <a:pt x="216" y="381"/>
                            </a:lnTo>
                            <a:lnTo>
                              <a:pt x="212" y="407"/>
                            </a:lnTo>
                            <a:lnTo>
                              <a:pt x="208" y="432"/>
                            </a:lnTo>
                            <a:lnTo>
                              <a:pt x="209" y="455"/>
                            </a:lnTo>
                            <a:lnTo>
                              <a:pt x="216" y="473"/>
                            </a:lnTo>
                            <a:lnTo>
                              <a:pt x="231" y="489"/>
                            </a:lnTo>
                            <a:lnTo>
                              <a:pt x="262" y="496"/>
                            </a:lnTo>
                            <a:lnTo>
                              <a:pt x="293" y="508"/>
                            </a:lnTo>
                            <a:lnTo>
                              <a:pt x="326" y="520"/>
                            </a:lnTo>
                            <a:lnTo>
                              <a:pt x="364" y="536"/>
                            </a:lnTo>
                            <a:lnTo>
                              <a:pt x="387" y="539"/>
                            </a:lnTo>
                            <a:lnTo>
                              <a:pt x="411" y="545"/>
                            </a:lnTo>
                            <a:lnTo>
                              <a:pt x="434" y="553"/>
                            </a:lnTo>
                            <a:lnTo>
                              <a:pt x="457" y="563"/>
                            </a:lnTo>
                            <a:lnTo>
                              <a:pt x="475" y="576"/>
                            </a:lnTo>
                            <a:lnTo>
                              <a:pt x="493" y="592"/>
                            </a:lnTo>
                            <a:lnTo>
                              <a:pt x="506" y="587"/>
                            </a:lnTo>
                            <a:lnTo>
                              <a:pt x="522" y="586"/>
                            </a:lnTo>
                            <a:lnTo>
                              <a:pt x="532" y="590"/>
                            </a:lnTo>
                            <a:lnTo>
                              <a:pt x="538" y="596"/>
                            </a:lnTo>
                            <a:lnTo>
                              <a:pt x="546" y="609"/>
                            </a:lnTo>
                            <a:lnTo>
                              <a:pt x="575" y="610"/>
                            </a:lnTo>
                            <a:lnTo>
                              <a:pt x="614" y="614"/>
                            </a:lnTo>
                            <a:lnTo>
                              <a:pt x="658" y="620"/>
                            </a:lnTo>
                            <a:lnTo>
                              <a:pt x="697" y="623"/>
                            </a:lnTo>
                            <a:lnTo>
                              <a:pt x="721" y="627"/>
                            </a:lnTo>
                            <a:lnTo>
                              <a:pt x="731" y="633"/>
                            </a:lnTo>
                            <a:lnTo>
                              <a:pt x="734" y="641"/>
                            </a:lnTo>
                            <a:lnTo>
                              <a:pt x="731" y="648"/>
                            </a:lnTo>
                            <a:lnTo>
                              <a:pt x="718" y="657"/>
                            </a:lnTo>
                            <a:lnTo>
                              <a:pt x="697" y="665"/>
                            </a:lnTo>
                            <a:lnTo>
                              <a:pt x="668" y="675"/>
                            </a:lnTo>
                            <a:lnTo>
                              <a:pt x="643" y="680"/>
                            </a:lnTo>
                            <a:lnTo>
                              <a:pt x="619" y="681"/>
                            </a:lnTo>
                            <a:lnTo>
                              <a:pt x="599" y="683"/>
                            </a:lnTo>
                            <a:lnTo>
                              <a:pt x="630" y="700"/>
                            </a:lnTo>
                            <a:lnTo>
                              <a:pt x="653" y="712"/>
                            </a:lnTo>
                            <a:lnTo>
                              <a:pt x="668" y="724"/>
                            </a:lnTo>
                            <a:lnTo>
                              <a:pt x="677" y="737"/>
                            </a:lnTo>
                            <a:lnTo>
                              <a:pt x="675" y="751"/>
                            </a:lnTo>
                            <a:lnTo>
                              <a:pt x="668" y="758"/>
                            </a:lnTo>
                            <a:lnTo>
                              <a:pt x="657" y="762"/>
                            </a:lnTo>
                            <a:lnTo>
                              <a:pt x="637" y="764"/>
                            </a:lnTo>
                            <a:lnTo>
                              <a:pt x="610" y="761"/>
                            </a:lnTo>
                            <a:lnTo>
                              <a:pt x="583" y="756"/>
                            </a:lnTo>
                            <a:lnTo>
                              <a:pt x="569" y="755"/>
                            </a:lnTo>
                            <a:lnTo>
                              <a:pt x="559" y="758"/>
                            </a:lnTo>
                            <a:lnTo>
                              <a:pt x="553" y="765"/>
                            </a:lnTo>
                            <a:lnTo>
                              <a:pt x="556" y="774"/>
                            </a:lnTo>
                            <a:lnTo>
                              <a:pt x="565" y="782"/>
                            </a:lnTo>
                            <a:lnTo>
                              <a:pt x="576" y="795"/>
                            </a:lnTo>
                            <a:lnTo>
                              <a:pt x="599" y="819"/>
                            </a:lnTo>
                            <a:lnTo>
                              <a:pt x="611" y="838"/>
                            </a:lnTo>
                            <a:lnTo>
                              <a:pt x="611" y="850"/>
                            </a:lnTo>
                            <a:lnTo>
                              <a:pt x="606" y="862"/>
                            </a:lnTo>
                            <a:lnTo>
                              <a:pt x="596" y="866"/>
                            </a:lnTo>
                            <a:lnTo>
                              <a:pt x="582" y="867"/>
                            </a:lnTo>
                            <a:lnTo>
                              <a:pt x="552" y="860"/>
                            </a:lnTo>
                            <a:lnTo>
                              <a:pt x="522" y="855"/>
                            </a:lnTo>
                            <a:lnTo>
                              <a:pt x="495" y="850"/>
                            </a:lnTo>
                            <a:lnTo>
                              <a:pt x="447" y="835"/>
                            </a:lnTo>
                            <a:lnTo>
                              <a:pt x="408" y="815"/>
                            </a:lnTo>
                            <a:lnTo>
                              <a:pt x="363" y="789"/>
                            </a:lnTo>
                            <a:lnTo>
                              <a:pt x="330" y="768"/>
                            </a:lnTo>
                            <a:lnTo>
                              <a:pt x="294" y="745"/>
                            </a:lnTo>
                            <a:lnTo>
                              <a:pt x="258" y="718"/>
                            </a:lnTo>
                            <a:lnTo>
                              <a:pt x="222" y="691"/>
                            </a:lnTo>
                            <a:lnTo>
                              <a:pt x="178" y="661"/>
                            </a:lnTo>
                            <a:lnTo>
                              <a:pt x="141" y="640"/>
                            </a:lnTo>
                            <a:lnTo>
                              <a:pt x="94" y="614"/>
                            </a:lnTo>
                            <a:lnTo>
                              <a:pt x="57" y="592"/>
                            </a:lnTo>
                            <a:lnTo>
                              <a:pt x="36" y="576"/>
                            </a:lnTo>
                            <a:lnTo>
                              <a:pt x="16" y="560"/>
                            </a:lnTo>
                            <a:lnTo>
                              <a:pt x="2" y="539"/>
                            </a:lnTo>
                            <a:lnTo>
                              <a:pt x="0" y="519"/>
                            </a:lnTo>
                            <a:lnTo>
                              <a:pt x="6" y="501"/>
                            </a:lnTo>
                            <a:lnTo>
                              <a:pt x="20" y="485"/>
                            </a:lnTo>
                            <a:lnTo>
                              <a:pt x="46" y="466"/>
                            </a:lnTo>
                            <a:lnTo>
                              <a:pt x="94" y="398"/>
                            </a:lnTo>
                            <a:lnTo>
                              <a:pt x="128" y="350"/>
                            </a:lnTo>
                            <a:lnTo>
                              <a:pt x="145" y="313"/>
                            </a:lnTo>
                            <a:lnTo>
                              <a:pt x="238" y="70"/>
                            </a:lnTo>
                            <a:lnTo>
                              <a:pt x="265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5947920" y="6199560"/>
                        <a:ext cx="484200" cy="221040"/>
                        <a:chOff x="5947920" y="6199560"/>
                        <a:chExt cx="484200" cy="22104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6336720" y="6351480"/>
                          <a:ext cx="3852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75">
                              <a:moveTo>
                                <a:pt x="31" y="0"/>
                              </a:moveTo>
                              <a:lnTo>
                                <a:pt x="36" y="10"/>
                              </a:lnTo>
                              <a:lnTo>
                                <a:pt x="39" y="21"/>
                              </a:lnTo>
                              <a:lnTo>
                                <a:pt x="37" y="34"/>
                              </a:lnTo>
                              <a:lnTo>
                                <a:pt x="31" y="51"/>
                              </a:lnTo>
                              <a:lnTo>
                                <a:pt x="26" y="60"/>
                              </a:lnTo>
                              <a:lnTo>
                                <a:pt x="14" y="68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6400080" y="6366240"/>
                          <a:ext cx="32040" cy="5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58">
                              <a:moveTo>
                                <a:pt x="21" y="0"/>
                              </a:moveTo>
                              <a:lnTo>
                                <a:pt x="28" y="14"/>
                              </a:lnTo>
                              <a:lnTo>
                                <a:pt x="31" y="22"/>
                              </a:lnTo>
                              <a:lnTo>
                                <a:pt x="28" y="32"/>
                              </a:lnTo>
                              <a:lnTo>
                                <a:pt x="23" y="41"/>
                              </a:lnTo>
                              <a:lnTo>
                                <a:pt x="14" y="48"/>
                              </a:lnTo>
                              <a:lnTo>
                                <a:pt x="0" y="58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5947920" y="6199560"/>
                          <a:ext cx="565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143">
                              <a:moveTo>
                                <a:pt x="55" y="0"/>
                              </a:moveTo>
                              <a:lnTo>
                                <a:pt x="38" y="15"/>
                              </a:lnTo>
                              <a:lnTo>
                                <a:pt x="21" y="37"/>
                              </a:lnTo>
                              <a:lnTo>
                                <a:pt x="11" y="56"/>
                              </a:lnTo>
                              <a:lnTo>
                                <a:pt x="4" y="71"/>
                              </a:lnTo>
                              <a:lnTo>
                                <a:pt x="0" y="88"/>
                              </a:lnTo>
                              <a:lnTo>
                                <a:pt x="0" y="103"/>
                              </a:lnTo>
                              <a:lnTo>
                                <a:pt x="4" y="120"/>
                              </a:lnTo>
                              <a:lnTo>
                                <a:pt x="15" y="14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544000" y="4051080"/>
                    <a:ext cx="1541160" cy="1840680"/>
                    <a:chOff x="5544000" y="4051080"/>
                    <a:chExt cx="1541160" cy="1840680"/>
                  </a:xfrm>
                </p:grpSpPr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5544000" y="4051080"/>
                      <a:ext cx="1541160" cy="1840680"/>
                      <a:chOff x="5544000" y="4051080"/>
                      <a:chExt cx="1541160" cy="1840680"/>
                    </a:xfrm>
                  </p:grpSpPr>
                  <p:grpSp>
                    <p:nvGrpSpPr>
                      <p:cNvPr id="188" name=""/>
                      <p:cNvGrpSpPr/>
                      <p:nvPr/>
                    </p:nvGrpSpPr>
                    <p:grpSpPr>
                      <a:xfrm>
                        <a:off x="5544000" y="4215960"/>
                        <a:ext cx="474840" cy="480960"/>
                        <a:chOff x="5544000" y="4215960"/>
                        <a:chExt cx="474840" cy="480960"/>
                      </a:xfrm>
                    </p:grpSpPr>
                    <p:grpSp>
                      <p:nvGrpSpPr>
                        <p:cNvPr id="189" name=""/>
                        <p:cNvGrpSpPr/>
                        <p:nvPr/>
                      </p:nvGrpSpPr>
                      <p:grpSpPr>
                        <a:xfrm>
                          <a:off x="5544000" y="4390200"/>
                          <a:ext cx="350280" cy="272880"/>
                          <a:chOff x="5544000" y="4390200"/>
                          <a:chExt cx="350280" cy="272880"/>
                        </a:xfrm>
                      </p:grpSpPr>
                      <p:sp>
                        <p:nvSpPr>
                          <p:cNvPr id="190" name=""/>
                          <p:cNvSpPr/>
                          <p:nvPr/>
                        </p:nvSpPr>
                        <p:spPr>
                          <a:xfrm>
                            <a:off x="5544000" y="4390200"/>
                            <a:ext cx="350280" cy="27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6" h="297">
                                <a:moveTo>
                                  <a:pt x="199" y="0"/>
                                </a:moveTo>
                                <a:lnTo>
                                  <a:pt x="131" y="11"/>
                                </a:lnTo>
                                <a:lnTo>
                                  <a:pt x="118" y="17"/>
                                </a:lnTo>
                                <a:lnTo>
                                  <a:pt x="132" y="60"/>
                                </a:lnTo>
                                <a:lnTo>
                                  <a:pt x="111" y="60"/>
                                </a:lnTo>
                                <a:lnTo>
                                  <a:pt x="103" y="64"/>
                                </a:lnTo>
                                <a:lnTo>
                                  <a:pt x="94" y="124"/>
                                </a:lnTo>
                                <a:lnTo>
                                  <a:pt x="80" y="119"/>
                                </a:lnTo>
                                <a:lnTo>
                                  <a:pt x="44" y="136"/>
                                </a:lnTo>
                                <a:lnTo>
                                  <a:pt x="7" y="166"/>
                                </a:lnTo>
                                <a:lnTo>
                                  <a:pt x="0" y="196"/>
                                </a:lnTo>
                                <a:lnTo>
                                  <a:pt x="9" y="225"/>
                                </a:lnTo>
                                <a:lnTo>
                                  <a:pt x="24" y="242"/>
                                </a:lnTo>
                                <a:lnTo>
                                  <a:pt x="37" y="252"/>
                                </a:lnTo>
                                <a:lnTo>
                                  <a:pt x="59" y="246"/>
                                </a:lnTo>
                                <a:lnTo>
                                  <a:pt x="84" y="243"/>
                                </a:lnTo>
                                <a:lnTo>
                                  <a:pt x="107" y="247"/>
                                </a:lnTo>
                                <a:lnTo>
                                  <a:pt x="131" y="255"/>
                                </a:lnTo>
                                <a:lnTo>
                                  <a:pt x="157" y="269"/>
                                </a:lnTo>
                                <a:lnTo>
                                  <a:pt x="186" y="297"/>
                                </a:lnTo>
                                <a:lnTo>
                                  <a:pt x="268" y="294"/>
                                </a:lnTo>
                                <a:lnTo>
                                  <a:pt x="346" y="269"/>
                                </a:lnTo>
                                <a:lnTo>
                                  <a:pt x="225" y="0"/>
                                </a:lnTo>
                                <a:lnTo>
                                  <a:pt x="19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1" name=""/>
                          <p:cNvSpPr/>
                          <p:nvPr/>
                        </p:nvSpPr>
                        <p:spPr>
                          <a:xfrm>
                            <a:off x="5641560" y="4501800"/>
                            <a:ext cx="132480" cy="36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2" name=""/>
                          <p:cNvSpPr/>
                          <p:nvPr/>
                        </p:nvSpPr>
                        <p:spPr>
                          <a:xfrm>
                            <a:off x="5676480" y="4441680"/>
                            <a:ext cx="99720" cy="12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741640" y="4483800"/>
                          <a:ext cx="136440" cy="18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99">
                              <a:moveTo>
                                <a:pt x="0" y="17"/>
                              </a:moveTo>
                              <a:lnTo>
                                <a:pt x="70" y="0"/>
                              </a:lnTo>
                              <a:lnTo>
                                <a:pt x="134" y="178"/>
                              </a:lnTo>
                              <a:lnTo>
                                <a:pt x="55" y="199"/>
                              </a:lnTo>
                              <a:lnTo>
                                <a:pt x="0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694840" y="4533480"/>
                          <a:ext cx="134280" cy="16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2" h="178">
                              <a:moveTo>
                                <a:pt x="83" y="0"/>
                              </a:moveTo>
                              <a:lnTo>
                                <a:pt x="42" y="2"/>
                              </a:lnTo>
                              <a:lnTo>
                                <a:pt x="17" y="36"/>
                              </a:lnTo>
                              <a:lnTo>
                                <a:pt x="12" y="53"/>
                              </a:lnTo>
                              <a:lnTo>
                                <a:pt x="17" y="70"/>
                              </a:lnTo>
                              <a:lnTo>
                                <a:pt x="38" y="96"/>
                              </a:lnTo>
                              <a:lnTo>
                                <a:pt x="12" y="121"/>
                              </a:lnTo>
                              <a:lnTo>
                                <a:pt x="0" y="141"/>
                              </a:lnTo>
                              <a:lnTo>
                                <a:pt x="7" y="161"/>
                              </a:lnTo>
                              <a:lnTo>
                                <a:pt x="19" y="178"/>
                              </a:lnTo>
                              <a:lnTo>
                                <a:pt x="58" y="175"/>
                              </a:lnTo>
                              <a:lnTo>
                                <a:pt x="100" y="163"/>
                              </a:lnTo>
                              <a:lnTo>
                                <a:pt x="118" y="141"/>
                              </a:lnTo>
                              <a:lnTo>
                                <a:pt x="132" y="36"/>
                              </a:lnTo>
                              <a:lnTo>
                                <a:pt x="100" y="23"/>
                              </a:lnTo>
                              <a:lnTo>
                                <a:pt x="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709240" y="4215960"/>
                          <a:ext cx="309600" cy="30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6" h="333">
                              <a:moveTo>
                                <a:pt x="127" y="319"/>
                              </a:moveTo>
                              <a:lnTo>
                                <a:pt x="88" y="332"/>
                              </a:lnTo>
                              <a:lnTo>
                                <a:pt x="76" y="333"/>
                              </a:lnTo>
                              <a:lnTo>
                                <a:pt x="64" y="329"/>
                              </a:lnTo>
                              <a:lnTo>
                                <a:pt x="56" y="316"/>
                              </a:lnTo>
                              <a:lnTo>
                                <a:pt x="17" y="255"/>
                              </a:lnTo>
                              <a:lnTo>
                                <a:pt x="0" y="204"/>
                              </a:lnTo>
                              <a:lnTo>
                                <a:pt x="7" y="144"/>
                              </a:lnTo>
                              <a:lnTo>
                                <a:pt x="20" y="89"/>
                              </a:lnTo>
                              <a:lnTo>
                                <a:pt x="30" y="89"/>
                              </a:lnTo>
                              <a:lnTo>
                                <a:pt x="56" y="97"/>
                              </a:lnTo>
                              <a:lnTo>
                                <a:pt x="97" y="118"/>
                              </a:lnTo>
                              <a:lnTo>
                                <a:pt x="101" y="77"/>
                              </a:lnTo>
                              <a:lnTo>
                                <a:pt x="110" y="56"/>
                              </a:lnTo>
                              <a:lnTo>
                                <a:pt x="133" y="46"/>
                              </a:lnTo>
                              <a:lnTo>
                                <a:pt x="162" y="42"/>
                              </a:lnTo>
                              <a:lnTo>
                                <a:pt x="199" y="42"/>
                              </a:lnTo>
                              <a:lnTo>
                                <a:pt x="204" y="26"/>
                              </a:lnTo>
                              <a:lnTo>
                                <a:pt x="208" y="13"/>
                              </a:lnTo>
                              <a:lnTo>
                                <a:pt x="221" y="2"/>
                              </a:lnTo>
                              <a:lnTo>
                                <a:pt x="239" y="0"/>
                              </a:lnTo>
                              <a:lnTo>
                                <a:pt x="272" y="5"/>
                              </a:lnTo>
                              <a:lnTo>
                                <a:pt x="250" y="27"/>
                              </a:lnTo>
                              <a:lnTo>
                                <a:pt x="272" y="64"/>
                              </a:lnTo>
                              <a:lnTo>
                                <a:pt x="306" y="106"/>
                              </a:lnTo>
                              <a:lnTo>
                                <a:pt x="127" y="3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6" name=""/>
                      <p:cNvGrpSpPr/>
                      <p:nvPr/>
                    </p:nvGrpSpPr>
                    <p:grpSpPr>
                      <a:xfrm>
                        <a:off x="6094800" y="4051080"/>
                        <a:ext cx="990360" cy="749880"/>
                        <a:chOff x="6094800" y="4051080"/>
                        <a:chExt cx="990360" cy="749880"/>
                      </a:xfrm>
                    </p:grpSpPr>
                    <p:grpSp>
                      <p:nvGrpSpPr>
                        <p:cNvPr id="197" name=""/>
                        <p:cNvGrpSpPr/>
                        <p:nvPr/>
                      </p:nvGrpSpPr>
                      <p:grpSpPr>
                        <a:xfrm>
                          <a:off x="6094800" y="4051080"/>
                          <a:ext cx="605160" cy="749880"/>
                          <a:chOff x="6094800" y="4051080"/>
                          <a:chExt cx="605160" cy="749880"/>
                        </a:xfrm>
                      </p:grpSpPr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6094800" y="4051080"/>
                            <a:ext cx="605160" cy="74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5" h="818">
                                <a:moveTo>
                                  <a:pt x="25" y="273"/>
                                </a:moveTo>
                                <a:lnTo>
                                  <a:pt x="57" y="211"/>
                                </a:lnTo>
                                <a:lnTo>
                                  <a:pt x="101" y="147"/>
                                </a:lnTo>
                                <a:lnTo>
                                  <a:pt x="144" y="86"/>
                                </a:lnTo>
                                <a:lnTo>
                                  <a:pt x="238" y="34"/>
                                </a:lnTo>
                                <a:lnTo>
                                  <a:pt x="226" y="91"/>
                                </a:lnTo>
                                <a:lnTo>
                                  <a:pt x="320" y="0"/>
                                </a:lnTo>
                                <a:lnTo>
                                  <a:pt x="307" y="30"/>
                                </a:lnTo>
                                <a:lnTo>
                                  <a:pt x="299" y="68"/>
                                </a:lnTo>
                                <a:lnTo>
                                  <a:pt x="374" y="0"/>
                                </a:lnTo>
                                <a:lnTo>
                                  <a:pt x="310" y="94"/>
                                </a:lnTo>
                                <a:lnTo>
                                  <a:pt x="302" y="130"/>
                                </a:lnTo>
                                <a:lnTo>
                                  <a:pt x="337" y="86"/>
                                </a:lnTo>
                                <a:lnTo>
                                  <a:pt x="406" y="56"/>
                                </a:lnTo>
                                <a:lnTo>
                                  <a:pt x="472" y="53"/>
                                </a:lnTo>
                                <a:lnTo>
                                  <a:pt x="404" y="94"/>
                                </a:lnTo>
                                <a:lnTo>
                                  <a:pt x="379" y="145"/>
                                </a:lnTo>
                                <a:lnTo>
                                  <a:pt x="383" y="174"/>
                                </a:lnTo>
                                <a:lnTo>
                                  <a:pt x="404" y="175"/>
                                </a:lnTo>
                                <a:lnTo>
                                  <a:pt x="438" y="192"/>
                                </a:lnTo>
                                <a:lnTo>
                                  <a:pt x="487" y="229"/>
                                </a:lnTo>
                                <a:lnTo>
                                  <a:pt x="477" y="246"/>
                                </a:lnTo>
                                <a:lnTo>
                                  <a:pt x="474" y="260"/>
                                </a:lnTo>
                                <a:lnTo>
                                  <a:pt x="481" y="282"/>
                                </a:lnTo>
                                <a:lnTo>
                                  <a:pt x="494" y="299"/>
                                </a:lnTo>
                                <a:lnTo>
                                  <a:pt x="515" y="316"/>
                                </a:lnTo>
                                <a:lnTo>
                                  <a:pt x="543" y="329"/>
                                </a:lnTo>
                                <a:lnTo>
                                  <a:pt x="570" y="337"/>
                                </a:lnTo>
                                <a:lnTo>
                                  <a:pt x="595" y="342"/>
                                </a:lnTo>
                                <a:lnTo>
                                  <a:pt x="562" y="380"/>
                                </a:lnTo>
                                <a:lnTo>
                                  <a:pt x="539" y="418"/>
                                </a:lnTo>
                                <a:lnTo>
                                  <a:pt x="515" y="461"/>
                                </a:lnTo>
                                <a:lnTo>
                                  <a:pt x="494" y="505"/>
                                </a:lnTo>
                                <a:lnTo>
                                  <a:pt x="474" y="552"/>
                                </a:lnTo>
                                <a:lnTo>
                                  <a:pt x="435" y="575"/>
                                </a:lnTo>
                                <a:lnTo>
                                  <a:pt x="377" y="579"/>
                                </a:lnTo>
                                <a:lnTo>
                                  <a:pt x="337" y="566"/>
                                </a:lnTo>
                                <a:lnTo>
                                  <a:pt x="312" y="558"/>
                                </a:lnTo>
                                <a:lnTo>
                                  <a:pt x="288" y="572"/>
                                </a:lnTo>
                                <a:lnTo>
                                  <a:pt x="295" y="620"/>
                                </a:lnTo>
                                <a:lnTo>
                                  <a:pt x="319" y="674"/>
                                </a:lnTo>
                                <a:lnTo>
                                  <a:pt x="333" y="710"/>
                                </a:lnTo>
                                <a:lnTo>
                                  <a:pt x="333" y="740"/>
                                </a:lnTo>
                                <a:lnTo>
                                  <a:pt x="307" y="818"/>
                                </a:lnTo>
                                <a:lnTo>
                                  <a:pt x="17" y="787"/>
                                </a:lnTo>
                                <a:lnTo>
                                  <a:pt x="5" y="545"/>
                                </a:lnTo>
                                <a:lnTo>
                                  <a:pt x="0" y="404"/>
                                </a:lnTo>
                                <a:lnTo>
                                  <a:pt x="9" y="324"/>
                                </a:lnTo>
                                <a:lnTo>
                                  <a:pt x="25" y="27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9" name=""/>
                          <p:cNvSpPr/>
                          <p:nvPr/>
                        </p:nvSpPr>
                        <p:spPr>
                          <a:xfrm>
                            <a:off x="6483600" y="4254480"/>
                            <a:ext cx="96120" cy="21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4" h="24">
                                <a:moveTo>
                                  <a:pt x="94" y="24"/>
                                </a:moveTo>
                                <a:lnTo>
                                  <a:pt x="77" y="16"/>
                                </a:lnTo>
                                <a:lnTo>
                                  <a:pt x="55" y="7"/>
                                </a:lnTo>
                                <a:lnTo>
                                  <a:pt x="38" y="0"/>
                                </a:lnTo>
                                <a:lnTo>
                                  <a:pt x="18" y="4"/>
                                </a:lnTo>
                                <a:lnTo>
                                  <a:pt x="0" y="17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0" name=""/>
                        <p:cNvGrpSpPr/>
                        <p:nvPr/>
                      </p:nvGrpSpPr>
                      <p:grpSpPr>
                        <a:xfrm>
                          <a:off x="6359760" y="4361040"/>
                          <a:ext cx="725400" cy="364680"/>
                          <a:chOff x="6359760" y="4361040"/>
                          <a:chExt cx="725400" cy="364680"/>
                        </a:xfrm>
                      </p:grpSpPr>
                      <p:sp>
                        <p:nvSpPr>
                          <p:cNvPr id="201" name=""/>
                          <p:cNvSpPr/>
                          <p:nvPr/>
                        </p:nvSpPr>
                        <p:spPr>
                          <a:xfrm>
                            <a:off x="6359760" y="4361040"/>
                            <a:ext cx="725400" cy="364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2" h="400">
                                <a:moveTo>
                                  <a:pt x="0" y="233"/>
                                </a:moveTo>
                                <a:lnTo>
                                  <a:pt x="69" y="188"/>
                                </a:lnTo>
                                <a:lnTo>
                                  <a:pt x="163" y="218"/>
                                </a:lnTo>
                                <a:lnTo>
                                  <a:pt x="218" y="182"/>
                                </a:lnTo>
                                <a:lnTo>
                                  <a:pt x="260" y="110"/>
                                </a:lnTo>
                                <a:lnTo>
                                  <a:pt x="305" y="43"/>
                                </a:lnTo>
                                <a:lnTo>
                                  <a:pt x="326" y="0"/>
                                </a:lnTo>
                                <a:lnTo>
                                  <a:pt x="373" y="5"/>
                                </a:lnTo>
                                <a:lnTo>
                                  <a:pt x="405" y="16"/>
                                </a:lnTo>
                                <a:lnTo>
                                  <a:pt x="430" y="47"/>
                                </a:lnTo>
                                <a:lnTo>
                                  <a:pt x="463" y="90"/>
                                </a:lnTo>
                                <a:lnTo>
                                  <a:pt x="497" y="128"/>
                                </a:lnTo>
                                <a:lnTo>
                                  <a:pt x="545" y="167"/>
                                </a:lnTo>
                                <a:lnTo>
                                  <a:pt x="595" y="201"/>
                                </a:lnTo>
                                <a:lnTo>
                                  <a:pt x="633" y="226"/>
                                </a:lnTo>
                                <a:lnTo>
                                  <a:pt x="661" y="239"/>
                                </a:lnTo>
                                <a:lnTo>
                                  <a:pt x="685" y="245"/>
                                </a:lnTo>
                                <a:lnTo>
                                  <a:pt x="712" y="239"/>
                                </a:lnTo>
                                <a:lnTo>
                                  <a:pt x="710" y="272"/>
                                </a:lnTo>
                                <a:lnTo>
                                  <a:pt x="702" y="306"/>
                                </a:lnTo>
                                <a:lnTo>
                                  <a:pt x="676" y="346"/>
                                </a:lnTo>
                                <a:lnTo>
                                  <a:pt x="651" y="377"/>
                                </a:lnTo>
                                <a:lnTo>
                                  <a:pt x="625" y="391"/>
                                </a:lnTo>
                                <a:lnTo>
                                  <a:pt x="595" y="379"/>
                                </a:lnTo>
                                <a:lnTo>
                                  <a:pt x="562" y="360"/>
                                </a:lnTo>
                                <a:lnTo>
                                  <a:pt x="527" y="344"/>
                                </a:lnTo>
                                <a:lnTo>
                                  <a:pt x="486" y="332"/>
                                </a:lnTo>
                                <a:lnTo>
                                  <a:pt x="454" y="353"/>
                                </a:lnTo>
                                <a:lnTo>
                                  <a:pt x="412" y="379"/>
                                </a:lnTo>
                                <a:lnTo>
                                  <a:pt x="382" y="356"/>
                                </a:lnTo>
                                <a:lnTo>
                                  <a:pt x="332" y="324"/>
                                </a:lnTo>
                                <a:lnTo>
                                  <a:pt x="301" y="342"/>
                                </a:lnTo>
                                <a:lnTo>
                                  <a:pt x="257" y="361"/>
                                </a:lnTo>
                                <a:lnTo>
                                  <a:pt x="200" y="374"/>
                                </a:lnTo>
                                <a:lnTo>
                                  <a:pt x="125" y="391"/>
                                </a:lnTo>
                                <a:lnTo>
                                  <a:pt x="68" y="400"/>
                                </a:lnTo>
                                <a:lnTo>
                                  <a:pt x="39" y="360"/>
                                </a:lnTo>
                                <a:lnTo>
                                  <a:pt x="29" y="336"/>
                                </a:lnTo>
                                <a:lnTo>
                                  <a:pt x="9" y="280"/>
                                </a:lnTo>
                                <a:lnTo>
                                  <a:pt x="0" y="2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02" name=""/>
                          <p:cNvGrpSpPr/>
                          <p:nvPr/>
                        </p:nvGrpSpPr>
                        <p:grpSpPr>
                          <a:xfrm>
                            <a:off x="6451560" y="4491000"/>
                            <a:ext cx="586440" cy="184680"/>
                            <a:chOff x="6451560" y="4491000"/>
                            <a:chExt cx="586440" cy="184680"/>
                          </a:xfrm>
                        </p:grpSpPr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6750720" y="4491000"/>
                              <a:ext cx="5904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43">
                                  <a:moveTo>
                                    <a:pt x="12" y="0"/>
                                  </a:moveTo>
                                  <a:lnTo>
                                    <a:pt x="59" y="27"/>
                                  </a:lnTo>
                                  <a:lnTo>
                                    <a:pt x="0" y="43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 flipH="1">
                              <a:off x="6983280" y="4586040"/>
                              <a:ext cx="54720" cy="309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840" bIns="-15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>
                              <a:off x="6451560" y="4617360"/>
                              <a:ext cx="73440" cy="5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64">
                                  <a:moveTo>
                                    <a:pt x="71" y="0"/>
                                  </a:moveTo>
                                  <a:lnTo>
                                    <a:pt x="38" y="15"/>
                                  </a:lnTo>
                                  <a:lnTo>
                                    <a:pt x="21" y="30"/>
                                  </a:lnTo>
                                  <a:lnTo>
                                    <a:pt x="11" y="44"/>
                                  </a:lnTo>
                                  <a:lnTo>
                                    <a:pt x="0" y="64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520" bIns="11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6473520" y="4617360"/>
                              <a:ext cx="380880" cy="43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4" h="49">
                                  <a:moveTo>
                                    <a:pt x="0" y="36"/>
                                  </a:moveTo>
                                  <a:lnTo>
                                    <a:pt x="47" y="23"/>
                                  </a:lnTo>
                                  <a:lnTo>
                                    <a:pt x="102" y="13"/>
                                  </a:lnTo>
                                  <a:lnTo>
                                    <a:pt x="149" y="3"/>
                                  </a:lnTo>
                                  <a:lnTo>
                                    <a:pt x="190" y="0"/>
                                  </a:lnTo>
                                  <a:lnTo>
                                    <a:pt x="233" y="5"/>
                                  </a:lnTo>
                                  <a:lnTo>
                                    <a:pt x="276" y="13"/>
                                  </a:lnTo>
                                  <a:lnTo>
                                    <a:pt x="321" y="26"/>
                                  </a:lnTo>
                                  <a:lnTo>
                                    <a:pt x="374" y="49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" bIns="-2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5772240" y="5189400"/>
                        <a:ext cx="803520" cy="702360"/>
                        <a:chOff x="5772240" y="5189400"/>
                        <a:chExt cx="803520" cy="70236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6224760" y="5620320"/>
                          <a:ext cx="23652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74">
                              <a:moveTo>
                                <a:pt x="157" y="0"/>
                              </a:moveTo>
                              <a:lnTo>
                                <a:pt x="233" y="0"/>
                              </a:lnTo>
                              <a:lnTo>
                                <a:pt x="226" y="40"/>
                              </a:lnTo>
                              <a:lnTo>
                                <a:pt x="218" y="82"/>
                              </a:lnTo>
                              <a:lnTo>
                                <a:pt x="201" y="121"/>
                              </a:lnTo>
                              <a:lnTo>
                                <a:pt x="178" y="154"/>
                              </a:lnTo>
                              <a:lnTo>
                                <a:pt x="145" y="188"/>
                              </a:lnTo>
                              <a:lnTo>
                                <a:pt x="114" y="215"/>
                              </a:lnTo>
                              <a:lnTo>
                                <a:pt x="80" y="252"/>
                              </a:lnTo>
                              <a:lnTo>
                                <a:pt x="63" y="269"/>
                              </a:lnTo>
                              <a:lnTo>
                                <a:pt x="50" y="273"/>
                              </a:lnTo>
                              <a:lnTo>
                                <a:pt x="30" y="274"/>
                              </a:lnTo>
                              <a:lnTo>
                                <a:pt x="0" y="252"/>
                              </a:lnTo>
                              <a:lnTo>
                                <a:pt x="15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5772240" y="5189400"/>
                          <a:ext cx="803520" cy="70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7" h="765">
                              <a:moveTo>
                                <a:pt x="301" y="565"/>
                              </a:moveTo>
                              <a:lnTo>
                                <a:pt x="297" y="609"/>
                              </a:lnTo>
                              <a:lnTo>
                                <a:pt x="300" y="656"/>
                              </a:lnTo>
                              <a:lnTo>
                                <a:pt x="310" y="703"/>
                              </a:lnTo>
                              <a:lnTo>
                                <a:pt x="318" y="728"/>
                              </a:lnTo>
                              <a:lnTo>
                                <a:pt x="334" y="747"/>
                              </a:lnTo>
                              <a:lnTo>
                                <a:pt x="354" y="745"/>
                              </a:lnTo>
                              <a:lnTo>
                                <a:pt x="378" y="740"/>
                              </a:lnTo>
                              <a:lnTo>
                                <a:pt x="391" y="754"/>
                              </a:lnTo>
                              <a:lnTo>
                                <a:pt x="406" y="763"/>
                              </a:lnTo>
                              <a:lnTo>
                                <a:pt x="425" y="765"/>
                              </a:lnTo>
                              <a:lnTo>
                                <a:pt x="443" y="761"/>
                              </a:lnTo>
                              <a:lnTo>
                                <a:pt x="463" y="745"/>
                              </a:lnTo>
                              <a:lnTo>
                                <a:pt x="482" y="724"/>
                              </a:lnTo>
                              <a:lnTo>
                                <a:pt x="504" y="699"/>
                              </a:lnTo>
                              <a:lnTo>
                                <a:pt x="529" y="672"/>
                              </a:lnTo>
                              <a:lnTo>
                                <a:pt x="551" y="644"/>
                              </a:lnTo>
                              <a:lnTo>
                                <a:pt x="578" y="613"/>
                              </a:lnTo>
                              <a:lnTo>
                                <a:pt x="614" y="561"/>
                              </a:lnTo>
                              <a:lnTo>
                                <a:pt x="647" y="519"/>
                              </a:lnTo>
                              <a:lnTo>
                                <a:pt x="686" y="484"/>
                              </a:lnTo>
                              <a:lnTo>
                                <a:pt x="715" y="462"/>
                              </a:lnTo>
                              <a:lnTo>
                                <a:pt x="742" y="431"/>
                              </a:lnTo>
                              <a:lnTo>
                                <a:pt x="767" y="391"/>
                              </a:lnTo>
                              <a:lnTo>
                                <a:pt x="780" y="352"/>
                              </a:lnTo>
                              <a:lnTo>
                                <a:pt x="787" y="303"/>
                              </a:lnTo>
                              <a:lnTo>
                                <a:pt x="772" y="239"/>
                              </a:lnTo>
                              <a:lnTo>
                                <a:pt x="180" y="71"/>
                              </a:lnTo>
                              <a:lnTo>
                                <a:pt x="149" y="67"/>
                              </a:lnTo>
                              <a:lnTo>
                                <a:pt x="112" y="34"/>
                              </a:lnTo>
                              <a:lnTo>
                                <a:pt x="65" y="0"/>
                              </a:lnTo>
                              <a:lnTo>
                                <a:pt x="0" y="47"/>
                              </a:lnTo>
                              <a:lnTo>
                                <a:pt x="18" y="76"/>
                              </a:lnTo>
                              <a:lnTo>
                                <a:pt x="51" y="107"/>
                              </a:lnTo>
                              <a:lnTo>
                                <a:pt x="23" y="124"/>
                              </a:lnTo>
                              <a:lnTo>
                                <a:pt x="1" y="148"/>
                              </a:lnTo>
                              <a:lnTo>
                                <a:pt x="31" y="165"/>
                              </a:lnTo>
                              <a:lnTo>
                                <a:pt x="51" y="185"/>
                              </a:lnTo>
                              <a:lnTo>
                                <a:pt x="64" y="216"/>
                              </a:lnTo>
                              <a:lnTo>
                                <a:pt x="68" y="242"/>
                              </a:lnTo>
                              <a:lnTo>
                                <a:pt x="18" y="234"/>
                              </a:lnTo>
                              <a:lnTo>
                                <a:pt x="14" y="261"/>
                              </a:lnTo>
                              <a:lnTo>
                                <a:pt x="23" y="297"/>
                              </a:lnTo>
                              <a:lnTo>
                                <a:pt x="48" y="334"/>
                              </a:lnTo>
                              <a:lnTo>
                                <a:pt x="75" y="360"/>
                              </a:lnTo>
                              <a:lnTo>
                                <a:pt x="115" y="380"/>
                              </a:lnTo>
                              <a:lnTo>
                                <a:pt x="153" y="390"/>
                              </a:lnTo>
                              <a:lnTo>
                                <a:pt x="159" y="428"/>
                              </a:lnTo>
                              <a:lnTo>
                                <a:pt x="183" y="462"/>
                              </a:lnTo>
                              <a:lnTo>
                                <a:pt x="214" y="501"/>
                              </a:lnTo>
                              <a:lnTo>
                                <a:pt x="254" y="536"/>
                              </a:lnTo>
                              <a:lnTo>
                                <a:pt x="301" y="56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6182640" y="4215960"/>
                      <a:ext cx="578880" cy="343080"/>
                      <a:chOff x="6182640" y="4215960"/>
                      <a:chExt cx="578880" cy="34308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6182640" y="4333680"/>
                        <a:ext cx="42984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2" h="106">
                            <a:moveTo>
                              <a:pt x="0" y="76"/>
                            </a:moveTo>
                            <a:lnTo>
                              <a:pt x="30" y="37"/>
                            </a:lnTo>
                            <a:lnTo>
                              <a:pt x="68" y="6"/>
                            </a:lnTo>
                            <a:lnTo>
                              <a:pt x="100" y="0"/>
                            </a:lnTo>
                            <a:lnTo>
                              <a:pt x="422" y="42"/>
                            </a:lnTo>
                            <a:lnTo>
                              <a:pt x="414" y="84"/>
                            </a:lnTo>
                            <a:lnTo>
                              <a:pt x="350" y="81"/>
                            </a:lnTo>
                            <a:lnTo>
                              <a:pt x="203" y="76"/>
                            </a:lnTo>
                            <a:lnTo>
                              <a:pt x="108" y="71"/>
                            </a:lnTo>
                            <a:lnTo>
                              <a:pt x="90" y="77"/>
                            </a:lnTo>
                            <a:lnTo>
                              <a:pt x="64" y="10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6698160" y="4254480"/>
                        <a:ext cx="6336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56">
                            <a:moveTo>
                              <a:pt x="20" y="0"/>
                            </a:moveTo>
                            <a:lnTo>
                              <a:pt x="41" y="21"/>
                            </a:lnTo>
                            <a:lnTo>
                              <a:pt x="51" y="41"/>
                            </a:lnTo>
                            <a:lnTo>
                              <a:pt x="58" y="67"/>
                            </a:lnTo>
                            <a:lnTo>
                              <a:pt x="63" y="91"/>
                            </a:lnTo>
                            <a:lnTo>
                              <a:pt x="56" y="114"/>
                            </a:lnTo>
                            <a:lnTo>
                              <a:pt x="43" y="134"/>
                            </a:lnTo>
                            <a:lnTo>
                              <a:pt x="23" y="148"/>
                            </a:lnTo>
                            <a:lnTo>
                              <a:pt x="0" y="156"/>
                            </a:lnTo>
                            <a:lnTo>
                              <a:pt x="20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6657480" y="4215960"/>
                        <a:ext cx="83520" cy="18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03">
                            <a:moveTo>
                              <a:pt x="0" y="168"/>
                            </a:moveTo>
                            <a:lnTo>
                              <a:pt x="39" y="0"/>
                            </a:lnTo>
                            <a:lnTo>
                              <a:pt x="83" y="21"/>
                            </a:lnTo>
                            <a:lnTo>
                              <a:pt x="44" y="203"/>
                            </a:lnTo>
                            <a:lnTo>
                              <a:pt x="5" y="199"/>
                            </a:lnTo>
                            <a:lnTo>
                              <a:pt x="0" y="168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6616800" y="4250880"/>
                        <a:ext cx="83520" cy="29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320">
                            <a:moveTo>
                              <a:pt x="35" y="0"/>
                            </a:moveTo>
                            <a:lnTo>
                              <a:pt x="56" y="17"/>
                            </a:lnTo>
                            <a:lnTo>
                              <a:pt x="69" y="41"/>
                            </a:lnTo>
                            <a:lnTo>
                              <a:pt x="76" y="69"/>
                            </a:lnTo>
                            <a:lnTo>
                              <a:pt x="81" y="101"/>
                            </a:lnTo>
                            <a:lnTo>
                              <a:pt x="79" y="131"/>
                            </a:lnTo>
                            <a:lnTo>
                              <a:pt x="72" y="173"/>
                            </a:lnTo>
                            <a:lnTo>
                              <a:pt x="62" y="212"/>
                            </a:lnTo>
                            <a:lnTo>
                              <a:pt x="48" y="252"/>
                            </a:lnTo>
                            <a:lnTo>
                              <a:pt x="27" y="284"/>
                            </a:lnTo>
                            <a:lnTo>
                              <a:pt x="0" y="320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6570000" y="4223160"/>
                        <a:ext cx="105840" cy="33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365">
                            <a:moveTo>
                              <a:pt x="51" y="0"/>
                            </a:moveTo>
                            <a:lnTo>
                              <a:pt x="105" y="6"/>
                            </a:lnTo>
                            <a:lnTo>
                              <a:pt x="51" y="365"/>
                            </a:lnTo>
                            <a:lnTo>
                              <a:pt x="0" y="361"/>
                            </a:lnTo>
                            <a:lnTo>
                              <a:pt x="51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795280" y="4280400"/>
                  <a:ext cx="822240" cy="1318320"/>
                  <a:chOff x="5795280" y="4280400"/>
                  <a:chExt cx="822240" cy="131832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5795280" y="4280400"/>
                    <a:ext cx="822240" cy="1318320"/>
                    <a:chOff x="5795280" y="4280400"/>
                    <a:chExt cx="822240" cy="131832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6204960" y="4744440"/>
                      <a:ext cx="360720" cy="240120"/>
                      <a:chOff x="6204960" y="4744440"/>
                      <a:chExt cx="360720" cy="240120"/>
                    </a:xfrm>
                  </p:grpSpPr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6204960" y="4744440"/>
                        <a:ext cx="2509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166">
                            <a:moveTo>
                              <a:pt x="0" y="78"/>
                            </a:moveTo>
                            <a:lnTo>
                              <a:pt x="55" y="0"/>
                            </a:lnTo>
                            <a:lnTo>
                              <a:pt x="240" y="17"/>
                            </a:lnTo>
                            <a:lnTo>
                              <a:pt x="246" y="38"/>
                            </a:lnTo>
                            <a:lnTo>
                              <a:pt x="242" y="64"/>
                            </a:lnTo>
                            <a:lnTo>
                              <a:pt x="199" y="91"/>
                            </a:lnTo>
                            <a:lnTo>
                              <a:pt x="116" y="166"/>
                            </a:lnTo>
                            <a:lnTo>
                              <a:pt x="0" y="7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321240" y="4795920"/>
                        <a:ext cx="244440" cy="18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205">
                            <a:moveTo>
                              <a:pt x="0" y="120"/>
                            </a:moveTo>
                            <a:lnTo>
                              <a:pt x="82" y="17"/>
                            </a:lnTo>
                            <a:lnTo>
                              <a:pt x="120" y="39"/>
                            </a:lnTo>
                            <a:lnTo>
                              <a:pt x="137" y="17"/>
                            </a:lnTo>
                            <a:lnTo>
                              <a:pt x="180" y="0"/>
                            </a:lnTo>
                            <a:lnTo>
                              <a:pt x="196" y="30"/>
                            </a:lnTo>
                            <a:lnTo>
                              <a:pt x="213" y="37"/>
                            </a:lnTo>
                            <a:lnTo>
                              <a:pt x="213" y="61"/>
                            </a:lnTo>
                            <a:lnTo>
                              <a:pt x="238" y="70"/>
                            </a:lnTo>
                            <a:lnTo>
                              <a:pt x="233" y="84"/>
                            </a:lnTo>
                            <a:lnTo>
                              <a:pt x="164" y="111"/>
                            </a:lnTo>
                            <a:lnTo>
                              <a:pt x="177" y="148"/>
                            </a:lnTo>
                            <a:lnTo>
                              <a:pt x="170" y="171"/>
                            </a:lnTo>
                            <a:lnTo>
                              <a:pt x="153" y="175"/>
                            </a:lnTo>
                            <a:lnTo>
                              <a:pt x="132" y="164"/>
                            </a:lnTo>
                            <a:lnTo>
                              <a:pt x="128" y="205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5795280" y="4280400"/>
                      <a:ext cx="822240" cy="1318320"/>
                      <a:chOff x="5795280" y="4280400"/>
                      <a:chExt cx="822240" cy="1318320"/>
                    </a:xfrm>
                  </p:grpSpPr>
                  <p:grpSp>
                    <p:nvGrpSpPr>
                      <p:cNvPr id="222" name=""/>
                      <p:cNvGrpSpPr/>
                      <p:nvPr/>
                    </p:nvGrpSpPr>
                    <p:grpSpPr>
                      <a:xfrm>
                        <a:off x="5795280" y="4280400"/>
                        <a:ext cx="822240" cy="1318320"/>
                        <a:chOff x="5795280" y="4280400"/>
                        <a:chExt cx="822240" cy="1318320"/>
                      </a:xfrm>
                    </p:grpSpPr>
                    <p:grpSp>
                      <p:nvGrpSpPr>
                        <p:cNvPr id="223" name=""/>
                        <p:cNvGrpSpPr/>
                        <p:nvPr/>
                      </p:nvGrpSpPr>
                      <p:grpSpPr>
                        <a:xfrm>
                          <a:off x="5795280" y="4280400"/>
                          <a:ext cx="822240" cy="1318320"/>
                          <a:chOff x="5795280" y="4280400"/>
                          <a:chExt cx="822240" cy="1318320"/>
                        </a:xfrm>
                      </p:grpSpPr>
                      <p:grpSp>
                        <p:nvGrpSpPr>
                          <p:cNvPr id="224" name=""/>
                          <p:cNvGrpSpPr/>
                          <p:nvPr/>
                        </p:nvGrpSpPr>
                        <p:grpSpPr>
                          <a:xfrm>
                            <a:off x="5795280" y="4280400"/>
                            <a:ext cx="279360" cy="397800"/>
                            <a:chOff x="5795280" y="4280400"/>
                            <a:chExt cx="279360" cy="397800"/>
                          </a:xfrm>
                        </p:grpSpPr>
                        <p:sp>
                          <p:nvSpPr>
                            <p:cNvPr id="225" name=""/>
                            <p:cNvSpPr/>
                            <p:nvPr/>
                          </p:nvSpPr>
                          <p:spPr>
                            <a:xfrm>
                              <a:off x="5919120" y="4540680"/>
                              <a:ext cx="152280" cy="13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9" h="150">
                                  <a:moveTo>
                                    <a:pt x="0" y="55"/>
                                  </a:moveTo>
                                  <a:lnTo>
                                    <a:pt x="25" y="120"/>
                                  </a:lnTo>
                                  <a:lnTo>
                                    <a:pt x="48" y="150"/>
                                  </a:lnTo>
                                  <a:lnTo>
                                    <a:pt x="149" y="103"/>
                                  </a:lnTo>
                                  <a:lnTo>
                                    <a:pt x="91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26" name=""/>
                            <p:cNvGrpSpPr/>
                            <p:nvPr/>
                          </p:nvGrpSpPr>
                          <p:grpSpPr>
                            <a:xfrm>
                              <a:off x="5795280" y="4280400"/>
                              <a:ext cx="279360" cy="395280"/>
                              <a:chOff x="5795280" y="4280400"/>
                              <a:chExt cx="279360" cy="395280"/>
                            </a:xfrm>
                          </p:grpSpPr>
                          <p:grpSp>
                            <p:nvGrpSpPr>
                              <p:cNvPr id="227" name=""/>
                              <p:cNvGrpSpPr/>
                              <p:nvPr/>
                            </p:nvGrpSpPr>
                            <p:grpSpPr>
                              <a:xfrm>
                                <a:off x="5795280" y="4280400"/>
                                <a:ext cx="279360" cy="395280"/>
                                <a:chOff x="5795280" y="4280400"/>
                                <a:chExt cx="279360" cy="395280"/>
                              </a:xfrm>
                            </p:grpSpPr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>
                                  <a:off x="5837400" y="4505400"/>
                                  <a:ext cx="126000" cy="1702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25" h="186">
                                      <a:moveTo>
                                        <a:pt x="0" y="6"/>
                                      </a:moveTo>
                                      <a:lnTo>
                                        <a:pt x="3" y="84"/>
                                      </a:lnTo>
                                      <a:lnTo>
                                        <a:pt x="15" y="112"/>
                                      </a:lnTo>
                                      <a:lnTo>
                                        <a:pt x="31" y="147"/>
                                      </a:lnTo>
                                      <a:lnTo>
                                        <a:pt x="42" y="166"/>
                                      </a:lnTo>
                                      <a:lnTo>
                                        <a:pt x="58" y="186"/>
                                      </a:lnTo>
                                      <a:lnTo>
                                        <a:pt x="82" y="176"/>
                                      </a:lnTo>
                                      <a:lnTo>
                                        <a:pt x="125" y="168"/>
                                      </a:lnTo>
                                      <a:lnTo>
                                        <a:pt x="95" y="0"/>
                                      </a:lnTo>
                                      <a:lnTo>
                                        <a:pt x="0" y="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>
                                  <a:off x="5795280" y="4280400"/>
                                  <a:ext cx="279360" cy="2743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7" h="302">
                                      <a:moveTo>
                                        <a:pt x="0" y="282"/>
                                      </a:moveTo>
                                      <a:lnTo>
                                        <a:pt x="13" y="236"/>
                                      </a:lnTo>
                                      <a:lnTo>
                                        <a:pt x="26" y="206"/>
                                      </a:lnTo>
                                      <a:lnTo>
                                        <a:pt x="54" y="164"/>
                                      </a:lnTo>
                                      <a:lnTo>
                                        <a:pt x="105" y="108"/>
                                      </a:lnTo>
                                      <a:lnTo>
                                        <a:pt x="157" y="54"/>
                                      </a:lnTo>
                                      <a:lnTo>
                                        <a:pt x="209" y="0"/>
                                      </a:lnTo>
                                      <a:lnTo>
                                        <a:pt x="225" y="2"/>
                                      </a:lnTo>
                                      <a:lnTo>
                                        <a:pt x="277" y="53"/>
                                      </a:lnTo>
                                      <a:lnTo>
                                        <a:pt x="117" y="302"/>
                                      </a:lnTo>
                                      <a:lnTo>
                                        <a:pt x="0" y="28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0" name=""/>
                              <p:cNvSpPr/>
                              <p:nvPr/>
                            </p:nvSpPr>
                            <p:spPr>
                              <a:xfrm>
                                <a:off x="5982120" y="4307760"/>
                                <a:ext cx="46440" cy="511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31" name=""/>
                          <p:cNvSpPr/>
                          <p:nvPr/>
                        </p:nvSpPr>
                        <p:spPr>
                          <a:xfrm>
                            <a:off x="5882400" y="4298400"/>
                            <a:ext cx="735120" cy="130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2" h="1418">
                                <a:moveTo>
                                  <a:pt x="0" y="323"/>
                                </a:moveTo>
                                <a:lnTo>
                                  <a:pt x="16" y="261"/>
                                </a:lnTo>
                                <a:lnTo>
                                  <a:pt x="43" y="204"/>
                                </a:lnTo>
                                <a:lnTo>
                                  <a:pt x="77" y="153"/>
                                </a:lnTo>
                                <a:lnTo>
                                  <a:pt x="111" y="101"/>
                                </a:lnTo>
                                <a:lnTo>
                                  <a:pt x="156" y="52"/>
                                </a:lnTo>
                                <a:lnTo>
                                  <a:pt x="190" y="0"/>
                                </a:lnTo>
                                <a:lnTo>
                                  <a:pt x="232" y="17"/>
                                </a:lnTo>
                                <a:lnTo>
                                  <a:pt x="271" y="43"/>
                                </a:lnTo>
                                <a:lnTo>
                                  <a:pt x="314" y="73"/>
                                </a:lnTo>
                                <a:lnTo>
                                  <a:pt x="357" y="114"/>
                                </a:lnTo>
                                <a:lnTo>
                                  <a:pt x="398" y="148"/>
                                </a:lnTo>
                                <a:lnTo>
                                  <a:pt x="462" y="218"/>
                                </a:lnTo>
                                <a:lnTo>
                                  <a:pt x="450" y="276"/>
                                </a:lnTo>
                                <a:lnTo>
                                  <a:pt x="433" y="350"/>
                                </a:lnTo>
                                <a:lnTo>
                                  <a:pt x="419" y="426"/>
                                </a:lnTo>
                                <a:lnTo>
                                  <a:pt x="411" y="480"/>
                                </a:lnTo>
                                <a:lnTo>
                                  <a:pt x="406" y="510"/>
                                </a:lnTo>
                                <a:lnTo>
                                  <a:pt x="387" y="561"/>
                                </a:lnTo>
                                <a:lnTo>
                                  <a:pt x="637" y="810"/>
                                </a:lnTo>
                                <a:lnTo>
                                  <a:pt x="667" y="881"/>
                                </a:lnTo>
                                <a:lnTo>
                                  <a:pt x="688" y="952"/>
                                </a:lnTo>
                                <a:lnTo>
                                  <a:pt x="713" y="1020"/>
                                </a:lnTo>
                                <a:lnTo>
                                  <a:pt x="722" y="1067"/>
                                </a:lnTo>
                                <a:lnTo>
                                  <a:pt x="718" y="1124"/>
                                </a:lnTo>
                                <a:lnTo>
                                  <a:pt x="715" y="1169"/>
                                </a:lnTo>
                                <a:lnTo>
                                  <a:pt x="701" y="1242"/>
                                </a:lnTo>
                                <a:lnTo>
                                  <a:pt x="530" y="1418"/>
                                </a:lnTo>
                                <a:lnTo>
                                  <a:pt x="450" y="1414"/>
                                </a:lnTo>
                                <a:lnTo>
                                  <a:pt x="224" y="1390"/>
                                </a:lnTo>
                                <a:lnTo>
                                  <a:pt x="119" y="1266"/>
                                </a:lnTo>
                                <a:lnTo>
                                  <a:pt x="106" y="1208"/>
                                </a:lnTo>
                                <a:lnTo>
                                  <a:pt x="84" y="1122"/>
                                </a:lnTo>
                                <a:lnTo>
                                  <a:pt x="51" y="1047"/>
                                </a:lnTo>
                                <a:lnTo>
                                  <a:pt x="37" y="973"/>
                                </a:lnTo>
                                <a:lnTo>
                                  <a:pt x="60" y="977"/>
                                </a:lnTo>
                                <a:lnTo>
                                  <a:pt x="106" y="1024"/>
                                </a:lnTo>
                                <a:lnTo>
                                  <a:pt x="155" y="1039"/>
                                </a:lnTo>
                                <a:lnTo>
                                  <a:pt x="165" y="1021"/>
                                </a:lnTo>
                                <a:lnTo>
                                  <a:pt x="186" y="1020"/>
                                </a:lnTo>
                                <a:lnTo>
                                  <a:pt x="190" y="939"/>
                                </a:lnTo>
                                <a:lnTo>
                                  <a:pt x="197" y="855"/>
                                </a:lnTo>
                                <a:lnTo>
                                  <a:pt x="74" y="730"/>
                                </a:lnTo>
                                <a:lnTo>
                                  <a:pt x="131" y="502"/>
                                </a:lnTo>
                                <a:lnTo>
                                  <a:pt x="159" y="417"/>
                                </a:lnTo>
                                <a:lnTo>
                                  <a:pt x="134" y="409"/>
                                </a:lnTo>
                                <a:lnTo>
                                  <a:pt x="152" y="389"/>
                                </a:lnTo>
                                <a:lnTo>
                                  <a:pt x="79" y="350"/>
                                </a:lnTo>
                                <a:lnTo>
                                  <a:pt x="0" y="3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6037560" y="4612320"/>
                          <a:ext cx="118800" cy="687600"/>
                          <a:chOff x="6037560" y="4612320"/>
                          <a:chExt cx="118800" cy="687600"/>
                        </a:xfrm>
                      </p:grpSpPr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6037560" y="4612320"/>
                            <a:ext cx="109080" cy="69120"/>
                            <a:chOff x="6037560" y="4612320"/>
                            <a:chExt cx="109080" cy="69120"/>
                          </a:xfrm>
                        </p:grpSpPr>
                        <p:sp>
                          <p:nvSpPr>
                            <p:cNvPr id="234" name=""/>
                            <p:cNvSpPr/>
                            <p:nvPr/>
                          </p:nvSpPr>
                          <p:spPr>
                            <a:xfrm flipV="1">
                              <a:off x="6037560" y="4612320"/>
                              <a:ext cx="96840" cy="41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040" bIns="-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/>
                            <p:nvPr/>
                          </p:nvSpPr>
                          <p:spPr>
                            <a:xfrm flipV="1">
                              <a:off x="6045120" y="4667040"/>
                              <a:ext cx="101520" cy="144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2400" bIns="-32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" name=""/>
                          <p:cNvGrpSpPr/>
                          <p:nvPr/>
                        </p:nvGrpSpPr>
                        <p:grpSpPr>
                          <a:xfrm>
                            <a:off x="6041160" y="5083560"/>
                            <a:ext cx="115200" cy="216360"/>
                            <a:chOff x="6041160" y="5083560"/>
                            <a:chExt cx="115200" cy="216360"/>
                          </a:xfrm>
                        </p:grpSpPr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>
                              <a:off x="6083640" y="5083560"/>
                              <a:ext cx="72720" cy="12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14">
                                  <a:moveTo>
                                    <a:pt x="0" y="0"/>
                                  </a:moveTo>
                                  <a:lnTo>
                                    <a:pt x="19" y="14"/>
                                  </a:lnTo>
                                  <a:lnTo>
                                    <a:pt x="73" y="6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200" bIns="-34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>
                              <a:off x="6073560" y="5234040"/>
                              <a:ext cx="52560" cy="60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65">
                                  <a:moveTo>
                                    <a:pt x="0" y="0"/>
                                  </a:moveTo>
                                  <a:lnTo>
                                    <a:pt x="17" y="30"/>
                                  </a:lnTo>
                                  <a:lnTo>
                                    <a:pt x="51" y="65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3320" bIns="13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9" name=""/>
                            <p:cNvSpPr/>
                            <p:nvPr/>
                          </p:nvSpPr>
                          <p:spPr>
                            <a:xfrm>
                              <a:off x="6041160" y="5253840"/>
                              <a:ext cx="26640" cy="46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" bIns="-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6204600" y="4417560"/>
                        <a:ext cx="146880" cy="22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249">
                            <a:moveTo>
                              <a:pt x="63" y="0"/>
                            </a:moveTo>
                            <a:lnTo>
                              <a:pt x="13" y="37"/>
                            </a:lnTo>
                            <a:lnTo>
                              <a:pt x="0" y="79"/>
                            </a:lnTo>
                            <a:lnTo>
                              <a:pt x="52" y="118"/>
                            </a:lnTo>
                            <a:lnTo>
                              <a:pt x="62" y="148"/>
                            </a:lnTo>
                            <a:lnTo>
                              <a:pt x="43" y="216"/>
                            </a:lnTo>
                            <a:lnTo>
                              <a:pt x="53" y="243"/>
                            </a:lnTo>
                            <a:lnTo>
                              <a:pt x="113" y="249"/>
                            </a:lnTo>
                            <a:lnTo>
                              <a:pt x="145" y="89"/>
                            </a:lnTo>
                            <a:lnTo>
                              <a:pt x="97" y="33"/>
                            </a:lnTo>
                            <a:lnTo>
                              <a:pt x="81" y="15"/>
                            </a:lnTo>
                            <a:lnTo>
                              <a:pt x="63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527520" y="5217120"/>
                    <a:ext cx="44280" cy="145800"/>
                    <a:chOff x="6527520" y="5217120"/>
                    <a:chExt cx="44280" cy="14580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529320" y="5217120"/>
                      <a:ext cx="42480" cy="601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527520" y="5304600"/>
                      <a:ext cx="42480" cy="583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4" name=""/>
            <p:cNvGrpSpPr/>
            <p:nvPr/>
          </p:nvGrpSpPr>
          <p:grpSpPr>
            <a:xfrm>
              <a:off x="6892560" y="4605840"/>
              <a:ext cx="1834200" cy="1965960"/>
              <a:chOff x="6892560" y="4605840"/>
              <a:chExt cx="1834200" cy="196596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6892560" y="5208480"/>
                <a:ext cx="1834200" cy="1363320"/>
                <a:chOff x="6892560" y="5208480"/>
                <a:chExt cx="1834200" cy="13633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892560" y="6374880"/>
                  <a:ext cx="877680" cy="187200"/>
                </a:xfrm>
                <a:custGeom>
                  <a:avLst/>
                  <a:gdLst/>
                  <a:ahLst/>
                  <a:rect l="l" t="t" r="r" b="b"/>
                  <a:pathLst>
                    <a:path w="860" h="203">
                      <a:moveTo>
                        <a:pt x="256" y="0"/>
                      </a:moveTo>
                      <a:lnTo>
                        <a:pt x="792" y="0"/>
                      </a:lnTo>
                      <a:lnTo>
                        <a:pt x="860" y="203"/>
                      </a:lnTo>
                      <a:lnTo>
                        <a:pt x="0" y="186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322760" y="5208480"/>
                  <a:ext cx="1404000" cy="1363320"/>
                  <a:chOff x="7322760" y="5208480"/>
                  <a:chExt cx="1404000" cy="13633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7394400" y="5351400"/>
                    <a:ext cx="1175040" cy="1220400"/>
                    <a:chOff x="7394400" y="5351400"/>
                    <a:chExt cx="1175040" cy="12204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7394400" y="5351400"/>
                      <a:ext cx="1175040" cy="122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2" h="1329">
                          <a:moveTo>
                            <a:pt x="466" y="0"/>
                          </a:moveTo>
                          <a:lnTo>
                            <a:pt x="766" y="0"/>
                          </a:lnTo>
                          <a:lnTo>
                            <a:pt x="734" y="38"/>
                          </a:lnTo>
                          <a:lnTo>
                            <a:pt x="716" y="68"/>
                          </a:lnTo>
                          <a:lnTo>
                            <a:pt x="702" y="98"/>
                          </a:lnTo>
                          <a:lnTo>
                            <a:pt x="693" y="126"/>
                          </a:lnTo>
                          <a:lnTo>
                            <a:pt x="683" y="166"/>
                          </a:lnTo>
                          <a:lnTo>
                            <a:pt x="678" y="204"/>
                          </a:lnTo>
                          <a:lnTo>
                            <a:pt x="671" y="258"/>
                          </a:lnTo>
                          <a:lnTo>
                            <a:pt x="663" y="325"/>
                          </a:lnTo>
                          <a:lnTo>
                            <a:pt x="659" y="406"/>
                          </a:lnTo>
                          <a:lnTo>
                            <a:pt x="652" y="537"/>
                          </a:lnTo>
                          <a:lnTo>
                            <a:pt x="652" y="625"/>
                          </a:lnTo>
                          <a:lnTo>
                            <a:pt x="658" y="712"/>
                          </a:lnTo>
                          <a:lnTo>
                            <a:pt x="665" y="780"/>
                          </a:lnTo>
                          <a:lnTo>
                            <a:pt x="672" y="833"/>
                          </a:lnTo>
                          <a:lnTo>
                            <a:pt x="688" y="884"/>
                          </a:lnTo>
                          <a:lnTo>
                            <a:pt x="699" y="910"/>
                          </a:lnTo>
                          <a:lnTo>
                            <a:pt x="723" y="941"/>
                          </a:lnTo>
                          <a:lnTo>
                            <a:pt x="752" y="968"/>
                          </a:lnTo>
                          <a:lnTo>
                            <a:pt x="788" y="991"/>
                          </a:lnTo>
                          <a:lnTo>
                            <a:pt x="835" y="1016"/>
                          </a:lnTo>
                          <a:lnTo>
                            <a:pt x="875" y="1033"/>
                          </a:lnTo>
                          <a:lnTo>
                            <a:pt x="932" y="1062"/>
                          </a:lnTo>
                          <a:lnTo>
                            <a:pt x="1039" y="1115"/>
                          </a:lnTo>
                          <a:lnTo>
                            <a:pt x="1152" y="1169"/>
                          </a:lnTo>
                          <a:lnTo>
                            <a:pt x="1152" y="1216"/>
                          </a:lnTo>
                          <a:lnTo>
                            <a:pt x="1090" y="1245"/>
                          </a:lnTo>
                          <a:lnTo>
                            <a:pt x="1017" y="1271"/>
                          </a:lnTo>
                          <a:lnTo>
                            <a:pt x="919" y="1295"/>
                          </a:lnTo>
                          <a:lnTo>
                            <a:pt x="813" y="1312"/>
                          </a:lnTo>
                          <a:lnTo>
                            <a:pt x="715" y="1322"/>
                          </a:lnTo>
                          <a:lnTo>
                            <a:pt x="584" y="1329"/>
                          </a:lnTo>
                          <a:lnTo>
                            <a:pt x="460" y="1322"/>
                          </a:lnTo>
                          <a:lnTo>
                            <a:pt x="368" y="1309"/>
                          </a:lnTo>
                          <a:lnTo>
                            <a:pt x="257" y="1295"/>
                          </a:lnTo>
                          <a:lnTo>
                            <a:pt x="149" y="1271"/>
                          </a:lnTo>
                          <a:lnTo>
                            <a:pt x="65" y="1245"/>
                          </a:lnTo>
                          <a:lnTo>
                            <a:pt x="0" y="1216"/>
                          </a:lnTo>
                          <a:lnTo>
                            <a:pt x="0" y="1169"/>
                          </a:lnTo>
                          <a:lnTo>
                            <a:pt x="137" y="1113"/>
                          </a:lnTo>
                          <a:lnTo>
                            <a:pt x="255" y="1062"/>
                          </a:lnTo>
                          <a:lnTo>
                            <a:pt x="315" y="1033"/>
                          </a:lnTo>
                          <a:lnTo>
                            <a:pt x="352" y="1016"/>
                          </a:lnTo>
                          <a:lnTo>
                            <a:pt x="392" y="991"/>
                          </a:lnTo>
                          <a:lnTo>
                            <a:pt x="425" y="965"/>
                          </a:lnTo>
                          <a:lnTo>
                            <a:pt x="445" y="945"/>
                          </a:lnTo>
                          <a:lnTo>
                            <a:pt x="470" y="914"/>
                          </a:lnTo>
                          <a:lnTo>
                            <a:pt x="487" y="884"/>
                          </a:lnTo>
                          <a:lnTo>
                            <a:pt x="504" y="833"/>
                          </a:lnTo>
                          <a:lnTo>
                            <a:pt x="517" y="782"/>
                          </a:lnTo>
                          <a:lnTo>
                            <a:pt x="528" y="712"/>
                          </a:lnTo>
                          <a:lnTo>
                            <a:pt x="538" y="625"/>
                          </a:lnTo>
                          <a:lnTo>
                            <a:pt x="544" y="537"/>
                          </a:lnTo>
                          <a:lnTo>
                            <a:pt x="548" y="409"/>
                          </a:lnTo>
                          <a:lnTo>
                            <a:pt x="543" y="324"/>
                          </a:lnTo>
                          <a:lnTo>
                            <a:pt x="540" y="231"/>
                          </a:lnTo>
                          <a:lnTo>
                            <a:pt x="535" y="180"/>
                          </a:lnTo>
                          <a:lnTo>
                            <a:pt x="528" y="132"/>
                          </a:lnTo>
                          <a:lnTo>
                            <a:pt x="518" y="93"/>
                          </a:lnTo>
                          <a:lnTo>
                            <a:pt x="507" y="62"/>
                          </a:lnTo>
                          <a:lnTo>
                            <a:pt x="491" y="34"/>
                          </a:lnTo>
                          <a:lnTo>
                            <a:pt x="466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7394400" y="6232320"/>
                      <a:ext cx="1170720" cy="297000"/>
                      <a:chOff x="7394400" y="6232320"/>
                      <a:chExt cx="1170720" cy="29700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840800" y="6232320"/>
                        <a:ext cx="307800" cy="3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41">
                            <a:moveTo>
                              <a:pt x="0" y="1"/>
                            </a:moveTo>
                            <a:lnTo>
                              <a:pt x="35" y="17"/>
                            </a:lnTo>
                            <a:lnTo>
                              <a:pt x="73" y="29"/>
                            </a:lnTo>
                            <a:lnTo>
                              <a:pt x="114" y="37"/>
                            </a:lnTo>
                            <a:lnTo>
                              <a:pt x="158" y="41"/>
                            </a:lnTo>
                            <a:lnTo>
                              <a:pt x="207" y="35"/>
                            </a:lnTo>
                            <a:lnTo>
                              <a:pt x="248" y="24"/>
                            </a:lnTo>
                            <a:lnTo>
                              <a:pt x="279" y="14"/>
                            </a:lnTo>
                            <a:lnTo>
                              <a:pt x="303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7394400" y="6426720"/>
                        <a:ext cx="1170720" cy="10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8" h="113">
                            <a:moveTo>
                              <a:pt x="0" y="2"/>
                            </a:moveTo>
                            <a:lnTo>
                              <a:pt x="64" y="30"/>
                            </a:lnTo>
                            <a:lnTo>
                              <a:pt x="128" y="49"/>
                            </a:lnTo>
                            <a:lnTo>
                              <a:pt x="180" y="64"/>
                            </a:lnTo>
                            <a:lnTo>
                              <a:pt x="255" y="79"/>
                            </a:lnTo>
                            <a:lnTo>
                              <a:pt x="329" y="90"/>
                            </a:lnTo>
                            <a:lnTo>
                              <a:pt x="406" y="100"/>
                            </a:lnTo>
                            <a:lnTo>
                              <a:pt x="472" y="108"/>
                            </a:lnTo>
                            <a:lnTo>
                              <a:pt x="578" y="113"/>
                            </a:lnTo>
                            <a:lnTo>
                              <a:pt x="703" y="108"/>
                            </a:lnTo>
                            <a:lnTo>
                              <a:pt x="780" y="100"/>
                            </a:lnTo>
                            <a:lnTo>
                              <a:pt x="906" y="81"/>
                            </a:lnTo>
                            <a:lnTo>
                              <a:pt x="970" y="69"/>
                            </a:lnTo>
                            <a:lnTo>
                              <a:pt x="1029" y="52"/>
                            </a:lnTo>
                            <a:lnTo>
                              <a:pt x="1097" y="26"/>
                            </a:lnTo>
                            <a:lnTo>
                              <a:pt x="1148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7322760" y="5208480"/>
                    <a:ext cx="1404000" cy="1684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7349760" y="4605840"/>
                <a:ext cx="1301760" cy="671760"/>
                <a:chOff x="7349760" y="4605840"/>
                <a:chExt cx="1301760" cy="6717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7349760" y="5085360"/>
                  <a:ext cx="1301760" cy="192240"/>
                  <a:chOff x="7349760" y="5085360"/>
                  <a:chExt cx="1301760" cy="192240"/>
                </a:xfrm>
              </p:grpSpPr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7349760" y="5085360"/>
                    <a:ext cx="531360" cy="114480"/>
                    <a:chOff x="7349760" y="5085360"/>
                    <a:chExt cx="531360" cy="11448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7386120" y="5085360"/>
                      <a:ext cx="36468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100">
                          <a:moveTo>
                            <a:pt x="0" y="54"/>
                          </a:moveTo>
                          <a:lnTo>
                            <a:pt x="155" y="46"/>
                          </a:lnTo>
                          <a:lnTo>
                            <a:pt x="359" y="0"/>
                          </a:lnTo>
                          <a:lnTo>
                            <a:pt x="359" y="67"/>
                          </a:lnTo>
                          <a:lnTo>
                            <a:pt x="147" y="95"/>
                          </a:lnTo>
                          <a:lnTo>
                            <a:pt x="0" y="100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349760" y="5090760"/>
                      <a:ext cx="531360" cy="109080"/>
                      <a:chOff x="7349760" y="5090760"/>
                      <a:chExt cx="531360" cy="10908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7828560" y="5152680"/>
                        <a:ext cx="26280" cy="4212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0" name=""/>
                      <p:cNvGrpSpPr/>
                      <p:nvPr/>
                    </p:nvGrpSpPr>
                    <p:grpSpPr>
                      <a:xfrm>
                        <a:off x="7349760" y="5090760"/>
                        <a:ext cx="531360" cy="109080"/>
                        <a:chOff x="7349760" y="5090760"/>
                        <a:chExt cx="531360" cy="109080"/>
                      </a:xfrm>
                    </p:grpSpPr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7349760" y="5090760"/>
                          <a:ext cx="531360" cy="10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1" h="120">
                              <a:moveTo>
                                <a:pt x="521" y="0"/>
                              </a:moveTo>
                              <a:lnTo>
                                <a:pt x="194" y="68"/>
                              </a:lnTo>
                              <a:lnTo>
                                <a:pt x="0" y="80"/>
                              </a:lnTo>
                              <a:lnTo>
                                <a:pt x="0" y="120"/>
                              </a:lnTo>
                              <a:lnTo>
                                <a:pt x="200" y="110"/>
                              </a:lnTo>
                              <a:lnTo>
                                <a:pt x="521" y="77"/>
                              </a:lnTo>
                              <a:lnTo>
                                <a:pt x="52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7373880" y="5110920"/>
                          <a:ext cx="48852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74">
                              <a:moveTo>
                                <a:pt x="0" y="74"/>
                              </a:moveTo>
                              <a:lnTo>
                                <a:pt x="179" y="63"/>
                              </a:lnTo>
                              <a:lnTo>
                                <a:pt x="480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7839360" y="5155200"/>
                    <a:ext cx="8121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135">
                        <a:moveTo>
                          <a:pt x="0" y="51"/>
                        </a:moveTo>
                        <a:lnTo>
                          <a:pt x="9" y="84"/>
                        </a:lnTo>
                        <a:lnTo>
                          <a:pt x="21" y="102"/>
                        </a:lnTo>
                        <a:lnTo>
                          <a:pt x="43" y="119"/>
                        </a:lnTo>
                        <a:lnTo>
                          <a:pt x="65" y="128"/>
                        </a:lnTo>
                        <a:lnTo>
                          <a:pt x="94" y="131"/>
                        </a:lnTo>
                        <a:lnTo>
                          <a:pt x="117" y="122"/>
                        </a:lnTo>
                        <a:lnTo>
                          <a:pt x="149" y="111"/>
                        </a:lnTo>
                        <a:lnTo>
                          <a:pt x="189" y="101"/>
                        </a:lnTo>
                        <a:lnTo>
                          <a:pt x="235" y="97"/>
                        </a:lnTo>
                        <a:lnTo>
                          <a:pt x="291" y="102"/>
                        </a:lnTo>
                        <a:lnTo>
                          <a:pt x="341" y="114"/>
                        </a:lnTo>
                        <a:lnTo>
                          <a:pt x="392" y="128"/>
                        </a:lnTo>
                        <a:lnTo>
                          <a:pt x="441" y="135"/>
                        </a:lnTo>
                        <a:lnTo>
                          <a:pt x="475" y="131"/>
                        </a:lnTo>
                        <a:lnTo>
                          <a:pt x="530" y="122"/>
                        </a:lnTo>
                        <a:lnTo>
                          <a:pt x="591" y="114"/>
                        </a:lnTo>
                        <a:lnTo>
                          <a:pt x="651" y="102"/>
                        </a:lnTo>
                        <a:lnTo>
                          <a:pt x="715" y="89"/>
                        </a:lnTo>
                        <a:lnTo>
                          <a:pt x="753" y="80"/>
                        </a:lnTo>
                        <a:lnTo>
                          <a:pt x="772" y="72"/>
                        </a:lnTo>
                        <a:lnTo>
                          <a:pt x="787" y="62"/>
                        </a:lnTo>
                        <a:lnTo>
                          <a:pt x="796" y="47"/>
                        </a:lnTo>
                        <a:lnTo>
                          <a:pt x="789" y="24"/>
                        </a:lnTo>
                        <a:lnTo>
                          <a:pt x="776" y="11"/>
                        </a:lnTo>
                        <a:lnTo>
                          <a:pt x="75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894440" y="4605840"/>
                  <a:ext cx="700920" cy="603000"/>
                  <a:chOff x="7894440" y="4605840"/>
                  <a:chExt cx="700920" cy="60300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7918920" y="4934520"/>
                    <a:ext cx="676440" cy="274320"/>
                    <a:chOff x="7918920" y="4934520"/>
                    <a:chExt cx="676440" cy="274320"/>
                  </a:xfrm>
                </p:grpSpPr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7918920" y="4957920"/>
                      <a:ext cx="676440" cy="250920"/>
                      <a:chOff x="7918920" y="4957920"/>
                      <a:chExt cx="676440" cy="25092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7918920" y="4957920"/>
                        <a:ext cx="676440" cy="237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8" name=""/>
                      <p:cNvGrpSpPr/>
                      <p:nvPr/>
                    </p:nvGrpSpPr>
                    <p:grpSpPr>
                      <a:xfrm>
                        <a:off x="7949160" y="4979880"/>
                        <a:ext cx="626400" cy="228960"/>
                        <a:chOff x="7949160" y="4979880"/>
                        <a:chExt cx="626400" cy="228960"/>
                      </a:xfrm>
                    </p:grpSpPr>
                    <p:grpSp>
                      <p:nvGrpSpPr>
                        <p:cNvPr id="269" name=""/>
                        <p:cNvGrpSpPr/>
                        <p:nvPr/>
                      </p:nvGrpSpPr>
                      <p:grpSpPr>
                        <a:xfrm>
                          <a:off x="7949160" y="4979880"/>
                          <a:ext cx="626400" cy="130320"/>
                          <a:chOff x="7949160" y="4979880"/>
                          <a:chExt cx="626400" cy="130320"/>
                        </a:xfrm>
                      </p:grpSpPr>
                      <p:grpSp>
                        <p:nvGrpSpPr>
                          <p:cNvPr id="270" name=""/>
                          <p:cNvGrpSpPr/>
                          <p:nvPr/>
                        </p:nvGrpSpPr>
                        <p:grpSpPr>
                          <a:xfrm>
                            <a:off x="7949160" y="4979880"/>
                            <a:ext cx="626400" cy="48600"/>
                            <a:chOff x="7949160" y="4979880"/>
                            <a:chExt cx="626400" cy="48600"/>
                          </a:xfrm>
                        </p:grpSpPr>
                        <p:sp>
                          <p:nvSpPr>
                            <p:cNvPr id="271" name=""/>
                            <p:cNvSpPr/>
                            <p:nvPr/>
                          </p:nvSpPr>
                          <p:spPr>
                            <a:xfrm>
                              <a:off x="7950960" y="4979880"/>
                              <a:ext cx="6246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2" name=""/>
                            <p:cNvSpPr/>
                            <p:nvPr/>
                          </p:nvSpPr>
                          <p:spPr>
                            <a:xfrm>
                              <a:off x="7949160" y="5003280"/>
                              <a:ext cx="62640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3" name=""/>
                            <p:cNvSpPr/>
                            <p:nvPr/>
                          </p:nvSpPr>
                          <p:spPr>
                            <a:xfrm>
                              <a:off x="7950960" y="5027040"/>
                              <a:ext cx="6246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4" name=""/>
                          <p:cNvGrpSpPr/>
                          <p:nvPr/>
                        </p:nvGrpSpPr>
                        <p:grpSpPr>
                          <a:xfrm>
                            <a:off x="7950960" y="5061600"/>
                            <a:ext cx="624600" cy="48600"/>
                            <a:chOff x="7950960" y="5061600"/>
                            <a:chExt cx="624600" cy="48600"/>
                          </a:xfrm>
                        </p:grpSpPr>
                        <p:sp>
                          <p:nvSpPr>
                            <p:cNvPr id="275" name=""/>
                            <p:cNvSpPr/>
                            <p:nvPr/>
                          </p:nvSpPr>
                          <p:spPr>
                            <a:xfrm>
                              <a:off x="7950960" y="5061600"/>
                              <a:ext cx="62460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" name=""/>
                            <p:cNvSpPr/>
                            <p:nvPr/>
                          </p:nvSpPr>
                          <p:spPr>
                            <a:xfrm>
                              <a:off x="7950960" y="5085360"/>
                              <a:ext cx="6246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7" name=""/>
                            <p:cNvSpPr/>
                            <p:nvPr/>
                          </p:nvSpPr>
                          <p:spPr>
                            <a:xfrm>
                              <a:off x="7950960" y="5108760"/>
                              <a:ext cx="6246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8" name=""/>
                        <p:cNvGrpSpPr/>
                        <p:nvPr/>
                      </p:nvGrpSpPr>
                      <p:grpSpPr>
                        <a:xfrm>
                          <a:off x="7950960" y="5146200"/>
                          <a:ext cx="596160" cy="62640"/>
                          <a:chOff x="7950960" y="5146200"/>
                          <a:chExt cx="596160" cy="62640"/>
                        </a:xfrm>
                      </p:grpSpPr>
                      <p:grpSp>
                        <p:nvGrpSpPr>
                          <p:cNvPr id="279" name=""/>
                          <p:cNvGrpSpPr/>
                          <p:nvPr/>
                        </p:nvGrpSpPr>
                        <p:grpSpPr>
                          <a:xfrm>
                            <a:off x="7950960" y="5146200"/>
                            <a:ext cx="221400" cy="62280"/>
                            <a:chOff x="7950960" y="5146200"/>
                            <a:chExt cx="221400" cy="62280"/>
                          </a:xfrm>
                        </p:grpSpPr>
                        <p:grpSp>
                          <p:nvGrpSpPr>
                            <p:cNvPr id="280" name=""/>
                            <p:cNvGrpSpPr/>
                            <p:nvPr/>
                          </p:nvGrpSpPr>
                          <p:grpSpPr>
                            <a:xfrm>
                              <a:off x="7950960" y="5146200"/>
                              <a:ext cx="93240" cy="62280"/>
                              <a:chOff x="7950960" y="5146200"/>
                              <a:chExt cx="93240" cy="62280"/>
                            </a:xfrm>
                          </p:grpSpPr>
                          <p:grpSp>
                            <p:nvGrpSpPr>
                              <p:cNvPr id="281" name=""/>
                              <p:cNvGrpSpPr/>
                              <p:nvPr/>
                            </p:nvGrpSpPr>
                            <p:grpSpPr>
                              <a:xfrm>
                                <a:off x="7950960" y="5146200"/>
                                <a:ext cx="30240" cy="62280"/>
                                <a:chOff x="7950960" y="5146200"/>
                                <a:chExt cx="30240" cy="62280"/>
                              </a:xfrm>
                            </p:grpSpPr>
                            <p:sp>
                              <p:nvSpPr>
                                <p:cNvPr id="282" name=""/>
                                <p:cNvSpPr/>
                                <p:nvPr/>
                              </p:nvSpPr>
                              <p:spPr>
                                <a:xfrm>
                                  <a:off x="7950960" y="5146200"/>
                                  <a:ext cx="2160" cy="60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4040" bIns="140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3" name=""/>
                                <p:cNvSpPr/>
                                <p:nvPr/>
                              </p:nvSpPr>
                              <p:spPr>
                                <a:xfrm>
                                  <a:off x="7979040" y="5148000"/>
                                  <a:ext cx="2160" cy="604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3680" bIns="136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>
                                <a:off x="8013960" y="5146200"/>
                                <a:ext cx="216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"/>
                              <p:cNvSpPr/>
                              <p:nvPr/>
                            </p:nvSpPr>
                            <p:spPr>
                              <a:xfrm>
                                <a:off x="8042400" y="5146200"/>
                                <a:ext cx="180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6" name=""/>
                            <p:cNvGrpSpPr/>
                            <p:nvPr/>
                          </p:nvGrpSpPr>
                          <p:grpSpPr>
                            <a:xfrm>
                              <a:off x="8077320" y="5146200"/>
                              <a:ext cx="95040" cy="60840"/>
                              <a:chOff x="8077320" y="5146200"/>
                              <a:chExt cx="95040" cy="60840"/>
                            </a:xfrm>
                          </p:grpSpPr>
                          <p:grpSp>
                            <p:nvGrpSpPr>
                              <p:cNvPr id="287" name=""/>
                              <p:cNvGrpSpPr/>
                              <p:nvPr/>
                            </p:nvGrpSpPr>
                            <p:grpSpPr>
                              <a:xfrm>
                                <a:off x="8077320" y="5146200"/>
                                <a:ext cx="29880" cy="60840"/>
                                <a:chOff x="8077320" y="5146200"/>
                                <a:chExt cx="29880" cy="60840"/>
                              </a:xfrm>
                            </p:grpSpPr>
                            <p:sp>
                              <p:nvSpPr>
                                <p:cNvPr id="288" name=""/>
                                <p:cNvSpPr/>
                                <p:nvPr/>
                              </p:nvSpPr>
                              <p:spPr>
                                <a:xfrm>
                                  <a:off x="8077320" y="5146200"/>
                                  <a:ext cx="1800" cy="5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2600" bIns="12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9" name=""/>
                                <p:cNvSpPr/>
                                <p:nvPr/>
                              </p:nvSpPr>
                              <p:spPr>
                                <a:xfrm>
                                  <a:off x="8105400" y="5146200"/>
                                  <a:ext cx="1800" cy="60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4040" bIns="140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90" name=""/>
                              <p:cNvSpPr/>
                              <p:nvPr/>
                            </p:nvSpPr>
                            <p:spPr>
                              <a:xfrm>
                                <a:off x="8142120" y="5146200"/>
                                <a:ext cx="1800" cy="5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2960" bIns="12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"/>
                              <p:cNvSpPr/>
                              <p:nvPr/>
                            </p:nvSpPr>
                            <p:spPr>
                              <a:xfrm>
                                <a:off x="8170560" y="5146200"/>
                                <a:ext cx="1800" cy="5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2960" bIns="12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2" name=""/>
                          <p:cNvGrpSpPr/>
                          <p:nvPr/>
                        </p:nvGrpSpPr>
                        <p:grpSpPr>
                          <a:xfrm>
                            <a:off x="8201520" y="5146200"/>
                            <a:ext cx="221400" cy="62640"/>
                            <a:chOff x="8201520" y="5146200"/>
                            <a:chExt cx="221400" cy="62640"/>
                          </a:xfrm>
                        </p:grpSpPr>
                        <p:grpSp>
                          <p:nvGrpSpPr>
                            <p:cNvPr id="293" name=""/>
                            <p:cNvGrpSpPr/>
                            <p:nvPr/>
                          </p:nvGrpSpPr>
                          <p:grpSpPr>
                            <a:xfrm>
                              <a:off x="8201520" y="5148000"/>
                              <a:ext cx="95040" cy="60840"/>
                              <a:chOff x="8201520" y="5148000"/>
                              <a:chExt cx="95040" cy="60840"/>
                            </a:xfrm>
                          </p:grpSpPr>
                          <p:grpSp>
                            <p:nvGrpSpPr>
                              <p:cNvPr id="294" name=""/>
                              <p:cNvGrpSpPr/>
                              <p:nvPr/>
                            </p:nvGrpSpPr>
                            <p:grpSpPr>
                              <a:xfrm>
                                <a:off x="8201520" y="5148000"/>
                                <a:ext cx="31680" cy="60480"/>
                                <a:chOff x="8201520" y="5148000"/>
                                <a:chExt cx="31680" cy="60480"/>
                              </a:xfrm>
                            </p:grpSpPr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>
                                  <a:off x="8201520" y="5148000"/>
                                  <a:ext cx="1800" cy="604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3680" bIns="136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" name=""/>
                                <p:cNvSpPr/>
                                <p:nvPr/>
                              </p:nvSpPr>
                              <p:spPr>
                                <a:xfrm>
                                  <a:off x="8231400" y="5149440"/>
                                  <a:ext cx="1800" cy="590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2240" bIns="122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97" name=""/>
                              <p:cNvSpPr/>
                              <p:nvPr/>
                            </p:nvSpPr>
                            <p:spPr>
                              <a:xfrm>
                                <a:off x="8266320" y="5148000"/>
                                <a:ext cx="1800" cy="608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"/>
                              <p:cNvSpPr/>
                              <p:nvPr/>
                            </p:nvSpPr>
                            <p:spPr>
                              <a:xfrm>
                                <a:off x="8294760" y="5148000"/>
                                <a:ext cx="1800" cy="608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9" name=""/>
                            <p:cNvGrpSpPr/>
                            <p:nvPr/>
                          </p:nvGrpSpPr>
                          <p:grpSpPr>
                            <a:xfrm>
                              <a:off x="8329680" y="5146200"/>
                              <a:ext cx="93240" cy="62280"/>
                              <a:chOff x="8329680" y="5146200"/>
                              <a:chExt cx="93240" cy="62280"/>
                            </a:xfrm>
                          </p:grpSpPr>
                          <p:grpSp>
                            <p:nvGrpSpPr>
                              <p:cNvPr id="300" name=""/>
                              <p:cNvGrpSpPr/>
                              <p:nvPr/>
                            </p:nvGrpSpPr>
                            <p:grpSpPr>
                              <a:xfrm>
                                <a:off x="8329680" y="5146200"/>
                                <a:ext cx="29880" cy="62280"/>
                                <a:chOff x="8329680" y="5146200"/>
                                <a:chExt cx="29880" cy="62280"/>
                              </a:xfrm>
                            </p:grpSpPr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8329680" y="5146200"/>
                                  <a:ext cx="1800" cy="60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4040" bIns="140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"/>
                                <p:cNvSpPr/>
                                <p:nvPr/>
                              </p:nvSpPr>
                              <p:spPr>
                                <a:xfrm>
                                  <a:off x="8357400" y="5148000"/>
                                  <a:ext cx="2160" cy="604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3680" bIns="136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03" name=""/>
                              <p:cNvSpPr/>
                              <p:nvPr/>
                            </p:nvSpPr>
                            <p:spPr>
                              <a:xfrm>
                                <a:off x="8392320" y="5146200"/>
                                <a:ext cx="216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"/>
                              <p:cNvSpPr/>
                              <p:nvPr/>
                            </p:nvSpPr>
                            <p:spPr>
                              <a:xfrm>
                                <a:off x="8420760" y="5146200"/>
                                <a:ext cx="216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05" name=""/>
                          <p:cNvGrpSpPr/>
                          <p:nvPr/>
                        </p:nvGrpSpPr>
                        <p:grpSpPr>
                          <a:xfrm>
                            <a:off x="8451720" y="5146200"/>
                            <a:ext cx="95400" cy="62640"/>
                            <a:chOff x="8451720" y="5146200"/>
                            <a:chExt cx="95400" cy="62640"/>
                          </a:xfrm>
                        </p:grpSpPr>
                        <p:grpSp>
                          <p:nvGrpSpPr>
                            <p:cNvPr id="306" name=""/>
                            <p:cNvGrpSpPr/>
                            <p:nvPr/>
                          </p:nvGrpSpPr>
                          <p:grpSpPr>
                            <a:xfrm>
                              <a:off x="8451720" y="5146200"/>
                              <a:ext cx="32040" cy="62640"/>
                              <a:chOff x="8451720" y="5146200"/>
                              <a:chExt cx="32040" cy="62640"/>
                            </a:xfrm>
                          </p:grpSpPr>
                          <p:sp>
                            <p:nvSpPr>
                              <p:cNvPr id="307" name=""/>
                              <p:cNvSpPr/>
                              <p:nvPr/>
                            </p:nvSpPr>
                            <p:spPr>
                              <a:xfrm>
                                <a:off x="8451720" y="5146200"/>
                                <a:ext cx="216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"/>
                              <p:cNvSpPr/>
                              <p:nvPr/>
                            </p:nvSpPr>
                            <p:spPr>
                              <a:xfrm>
                                <a:off x="8481600" y="5148000"/>
                                <a:ext cx="2160" cy="608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09" name=""/>
                            <p:cNvSpPr/>
                            <p:nvPr/>
                          </p:nvSpPr>
                          <p:spPr>
                            <a:xfrm>
                              <a:off x="8516520" y="5146200"/>
                              <a:ext cx="2160" cy="615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0" name=""/>
                            <p:cNvSpPr/>
                            <p:nvPr/>
                          </p:nvSpPr>
                          <p:spPr>
                            <a:xfrm>
                              <a:off x="8544960" y="5146200"/>
                              <a:ext cx="2160" cy="615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940880" y="4934520"/>
                      <a:ext cx="5403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1" h="17">
                          <a:moveTo>
                            <a:pt x="531" y="17"/>
                          </a:moveTo>
                          <a:lnTo>
                            <a:pt x="0" y="17"/>
                          </a:lnTo>
                          <a:lnTo>
                            <a:pt x="0" y="0"/>
                          </a:lnTo>
                          <a:lnTo>
                            <a:pt x="529" y="0"/>
                          </a:lnTo>
                          <a:lnTo>
                            <a:pt x="531" y="17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894440" y="4605840"/>
                    <a:ext cx="619200" cy="337320"/>
                    <a:chOff x="7894440" y="4605840"/>
                    <a:chExt cx="619200" cy="33732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8092080" y="4636800"/>
                      <a:ext cx="421560" cy="294840"/>
                      <a:chOff x="8092080" y="4636800"/>
                      <a:chExt cx="421560" cy="2948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8092080" y="4636800"/>
                        <a:ext cx="421560" cy="29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3" h="321">
                            <a:moveTo>
                              <a:pt x="0" y="321"/>
                            </a:moveTo>
                            <a:lnTo>
                              <a:pt x="396" y="321"/>
                            </a:lnTo>
                            <a:lnTo>
                              <a:pt x="408" y="313"/>
                            </a:lnTo>
                            <a:lnTo>
                              <a:pt x="413" y="293"/>
                            </a:lnTo>
                            <a:lnTo>
                              <a:pt x="413" y="30"/>
                            </a:lnTo>
                            <a:lnTo>
                              <a:pt x="411" y="8"/>
                            </a:lnTo>
                            <a:lnTo>
                              <a:pt x="399" y="0"/>
                            </a:lnTo>
                            <a:lnTo>
                              <a:pt x="0" y="0"/>
                            </a:lnTo>
                            <a:lnTo>
                              <a:pt x="0" y="32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8114040" y="4662360"/>
                        <a:ext cx="385920" cy="216720"/>
                        <a:chOff x="8114040" y="4662360"/>
                        <a:chExt cx="385920" cy="216720"/>
                      </a:xfrm>
                    </p:grpSpPr>
                    <p:grpSp>
                      <p:nvGrpSpPr>
                        <p:cNvPr id="316" name=""/>
                        <p:cNvGrpSpPr/>
                        <p:nvPr/>
                      </p:nvGrpSpPr>
                      <p:grpSpPr>
                        <a:xfrm>
                          <a:off x="8114040" y="4662360"/>
                          <a:ext cx="385920" cy="59400"/>
                          <a:chOff x="8114040" y="4662360"/>
                          <a:chExt cx="385920" cy="59400"/>
                        </a:xfrm>
                      </p:grpSpPr>
                      <p:grpSp>
                        <p:nvGrpSpPr>
                          <p:cNvPr id="317" name=""/>
                          <p:cNvGrpSpPr/>
                          <p:nvPr/>
                        </p:nvGrpSpPr>
                        <p:grpSpPr>
                          <a:xfrm>
                            <a:off x="8114040" y="4662360"/>
                            <a:ext cx="385920" cy="19440"/>
                            <a:chOff x="8114040" y="4662360"/>
                            <a:chExt cx="385920" cy="19440"/>
                          </a:xfrm>
                        </p:grpSpPr>
                        <p:sp>
                          <p:nvSpPr>
                            <p:cNvPr id="318" name=""/>
                            <p:cNvSpPr/>
                            <p:nvPr/>
                          </p:nvSpPr>
                          <p:spPr>
                            <a:xfrm>
                              <a:off x="8114040" y="4662360"/>
                              <a:ext cx="3841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" name=""/>
                            <p:cNvSpPr/>
                            <p:nvPr/>
                          </p:nvSpPr>
                          <p:spPr>
                            <a:xfrm flipV="1">
                              <a:off x="8114040" y="4680360"/>
                              <a:ext cx="3859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0" name=""/>
                          <p:cNvGrpSpPr/>
                          <p:nvPr/>
                        </p:nvGrpSpPr>
                        <p:grpSpPr>
                          <a:xfrm>
                            <a:off x="8114040" y="4700880"/>
                            <a:ext cx="385920" cy="20880"/>
                            <a:chOff x="8114040" y="4700880"/>
                            <a:chExt cx="385920" cy="20880"/>
                          </a:xfrm>
                        </p:grpSpPr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>
                              <a:off x="8114040" y="4700880"/>
                              <a:ext cx="3841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2" name=""/>
                            <p:cNvSpPr/>
                            <p:nvPr/>
                          </p:nvSpPr>
                          <p:spPr>
                            <a:xfrm flipV="1">
                              <a:off x="8114040" y="4720320"/>
                              <a:ext cx="3859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8116200" y="4741200"/>
                          <a:ext cx="383760" cy="57240"/>
                          <a:chOff x="8116200" y="4741200"/>
                          <a:chExt cx="383760" cy="57240"/>
                        </a:xfrm>
                      </p:grpSpPr>
                      <p:grpSp>
                        <p:nvGrpSpPr>
                          <p:cNvPr id="324" name=""/>
                          <p:cNvGrpSpPr/>
                          <p:nvPr/>
                        </p:nvGrpSpPr>
                        <p:grpSpPr>
                          <a:xfrm>
                            <a:off x="8116200" y="4741200"/>
                            <a:ext cx="383760" cy="19440"/>
                            <a:chOff x="8116200" y="4741200"/>
                            <a:chExt cx="383760" cy="19440"/>
                          </a:xfrm>
                        </p:grpSpPr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>
                              <a:off x="8116200" y="4741200"/>
                              <a:ext cx="38376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 flipV="1">
                              <a:off x="8116200" y="4759200"/>
                              <a:ext cx="38376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8116200" y="4779000"/>
                            <a:ext cx="383760" cy="19440"/>
                            <a:chOff x="8116200" y="4779000"/>
                            <a:chExt cx="383760" cy="19440"/>
                          </a:xfrm>
                        </p:grpSpPr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>
                              <a:off x="8116200" y="4779000"/>
                              <a:ext cx="38376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 flipV="1">
                              <a:off x="8116200" y="4796640"/>
                              <a:ext cx="38376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0" name=""/>
                        <p:cNvGrpSpPr/>
                        <p:nvPr/>
                      </p:nvGrpSpPr>
                      <p:grpSpPr>
                        <a:xfrm>
                          <a:off x="8114040" y="4817880"/>
                          <a:ext cx="385920" cy="61200"/>
                          <a:chOff x="8114040" y="4817880"/>
                          <a:chExt cx="385920" cy="61200"/>
                        </a:xfrm>
                      </p:grpSpPr>
                      <p:grpSp>
                        <p:nvGrpSpPr>
                          <p:cNvPr id="331" name=""/>
                          <p:cNvGrpSpPr/>
                          <p:nvPr/>
                        </p:nvGrpSpPr>
                        <p:grpSpPr>
                          <a:xfrm>
                            <a:off x="8114040" y="4817880"/>
                            <a:ext cx="385920" cy="19440"/>
                            <a:chOff x="8114040" y="4817880"/>
                            <a:chExt cx="385920" cy="19440"/>
                          </a:xfrm>
                        </p:grpSpPr>
                        <p:sp>
                          <p:nvSpPr>
                            <p:cNvPr id="332" name=""/>
                            <p:cNvSpPr/>
                            <p:nvPr/>
                          </p:nvSpPr>
                          <p:spPr>
                            <a:xfrm>
                              <a:off x="8114040" y="4817880"/>
                              <a:ext cx="3841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3" name=""/>
                            <p:cNvSpPr/>
                            <p:nvPr/>
                          </p:nvSpPr>
                          <p:spPr>
                            <a:xfrm flipV="1">
                              <a:off x="8114040" y="4835880"/>
                              <a:ext cx="3859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4" name=""/>
                          <p:cNvGrpSpPr/>
                          <p:nvPr/>
                        </p:nvGrpSpPr>
                        <p:grpSpPr>
                          <a:xfrm>
                            <a:off x="8114040" y="4857840"/>
                            <a:ext cx="385920" cy="21240"/>
                            <a:chOff x="8114040" y="4857840"/>
                            <a:chExt cx="385920" cy="21240"/>
                          </a:xfrm>
                        </p:grpSpPr>
                        <p:sp>
                          <p:nvSpPr>
                            <p:cNvPr id="335" name=""/>
                            <p:cNvSpPr/>
                            <p:nvPr/>
                          </p:nvSpPr>
                          <p:spPr>
                            <a:xfrm>
                              <a:off x="8114040" y="4857840"/>
                              <a:ext cx="3841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6" name=""/>
                            <p:cNvSpPr/>
                            <p:nvPr/>
                          </p:nvSpPr>
                          <p:spPr>
                            <a:xfrm flipV="1">
                              <a:off x="8114040" y="4877280"/>
                              <a:ext cx="38592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7894440" y="4605840"/>
                      <a:ext cx="195120" cy="337320"/>
                      <a:chOff x="7894440" y="4605840"/>
                      <a:chExt cx="195120" cy="337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7894440" y="4605840"/>
                        <a:ext cx="195120" cy="32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2" h="356">
                            <a:moveTo>
                              <a:pt x="192" y="0"/>
                            </a:moveTo>
                            <a:lnTo>
                              <a:pt x="192" y="356"/>
                            </a:lnTo>
                            <a:lnTo>
                              <a:pt x="13" y="356"/>
                            </a:lnTo>
                            <a:lnTo>
                              <a:pt x="6" y="353"/>
                            </a:lnTo>
                            <a:lnTo>
                              <a:pt x="1" y="343"/>
                            </a:lnTo>
                            <a:lnTo>
                              <a:pt x="0" y="333"/>
                            </a:lnTo>
                            <a:lnTo>
                              <a:pt x="0" y="20"/>
                            </a:lnTo>
                            <a:lnTo>
                              <a:pt x="3" y="10"/>
                            </a:lnTo>
                            <a:lnTo>
                              <a:pt x="9" y="2"/>
                            </a:lnTo>
                            <a:lnTo>
                              <a:pt x="17" y="0"/>
                            </a:lnTo>
                            <a:lnTo>
                              <a:pt x="19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061480" y="4607640"/>
                        <a:ext cx="1800" cy="335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97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rman Act § 1: Market Allocation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itorial Di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 Act specifically permits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from antitrust challenge if relationship is purely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ity does not extend to territorial restrictions after first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under the Rule of Reason if license has a horizontal a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rman Act § 1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arket Allocation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68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of Use and Customer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as non-price vertical restraints and are usually law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be used to impose price restrictions on purchasers of products with unlimited right to sell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illeg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used to create horizontal market alloca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ent is 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ent is trivial component of fi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743200" y="5410080"/>
            <a:ext cx="3505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Exclusive Dea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atentee condition its license or sale of patented good on agreement not to purchase competing goo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if sufficient percentage of market is available to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if exclusive is easily term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if efficiencies outweigh possible harm to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T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rly Supreme Court cases held that market power can be presumed from pa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rts condemned tying as patent misuse without inquiring into market power or anti-competitive eff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8 Patent Misuse Reform Act: must show market p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rts mixed: some follow early Supreme Court market power presumption, some do n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rts mixed: some say patent misuse same as tying under antitrust law, others do n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819760" y="495288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T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ndles with staples are distinct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ndles with non-staples are singl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 patents are on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ntitrust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-- Practice is anticompetitive on its face; anticompetitive effect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su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Reason -- Must prove anticompetitive effect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tailed economic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T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Power in Tying Product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have inferred market power from 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ing Supreme Court case demanded actual proof of market power, but appeared to allow the inference of such power from a 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urts generally demanded actual proof of marke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8 Patent Misuse Reform Act: requires market power over tying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T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-competitive Effects in Tied Product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eme Court decisions suggest that de minimis foreclosure of commerce is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urts are mixed, many Circuits now require anti-competitive effects in tied produc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Guidelines require an adverse effect on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600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88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piracy to restrai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ncerted action involving at least two a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patent pools, licens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716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1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7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Price Fixing -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Price Fix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retail price maintenance -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retail price maintenance -- Rule of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Non-Price Re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sive Territories--Rule of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sive Dealing--Rule of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762120"/>
            <a:ext cx="8566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1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llegal tying -- technicall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laim, but really a hybrid betwe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Rule of Reas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ement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olation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ducts being “tied” are distin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ing or actual ty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ffect on a not insubstantial amount of interstate commer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ompetitive effects (in some circui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2000" y="762120"/>
            <a:ext cx="85438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1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Boycott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f firm(s) have market power and/or deny access to elements essential to competi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Allocation Scheme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6000" y="19807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zation cla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 unilateral single firm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21:28:01Z</dcterms:created>
  <dc:creator>mcantor</dc:creator>
  <dc:description/>
  <dc:language>en-US</dc:language>
  <cp:lastModifiedBy>grobles</cp:lastModifiedBy>
  <cp:lastPrinted>2002-11-04T16:26:32Z</cp:lastPrinted>
  <dcterms:modified xsi:type="dcterms:W3CDTF">2005-06-02T20:26:11Z</dcterms:modified>
  <cp:revision>178</cp:revision>
  <dc:subject/>
  <dc:title>Role of Antitrust</dc:title>
</cp:coreProperties>
</file>