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jpeg" ContentType="image/jpeg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D03-C6BB-4F54-9B61-9E43CB23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740-D93D-46D2-80B1-A9A9ED2B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1C2-E04F-4AA6-ACE0-3C028A39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07A-B527-4FFA-A895-7767728B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1CF-3F8A-471D-93AE-A8CE26A1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78C-03FD-475A-8AD1-AE751CF4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B23-ED21-4006-A335-2064DC5E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584-4824-44D0-958E-EAA437D6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2E2-9154-4FD6-B821-8C79C55E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B2F-232C-47F4-9F7A-C639FFEE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1F4-D57D-4DA8-B226-9474C0A0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4FB-EC34-4F91-A271-17C70BEA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5722-AC40-4974-B953-1E82BF045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228600" y="0"/>
            <a:ext cx="2362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Garamond"/>
              </a:rPr>
              <a:t>Constantine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i="1" lang="en-US" sz="1500" spc="-1" strike="noStrike">
                <a:solidFill>
                  <a:srgbClr val="000000"/>
                </a:solidFill>
                <a:latin typeface="Garamond"/>
              </a:rPr>
              <a:t>Partn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829720" y="66103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ACC3-8F5F-424D-8BF9-225C43273F0B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9cc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aramond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71600"/>
            <a:ext cx="9144000" cy="6400800"/>
          </a:xfrm>
          <a:prstGeom prst="rect">
            <a:avLst/>
          </a:prstGeom>
          <a:solidFill>
            <a:srgbClr val="9cc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03360" y="-121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3340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476280" cy="26676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399960" y="0"/>
            <a:ext cx="2362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9cc0d2"/>
                </a:solidFill>
                <a:latin typeface="Garamond"/>
              </a:rPr>
              <a:t>Constantine </a:t>
            </a:r>
            <a:r>
              <a:rPr b="0" i="1" lang="en-US" sz="1700" spc="-1" strike="noStrike">
                <a:solidFill>
                  <a:srgbClr val="9cc0d2"/>
                </a:solidFill>
                <a:latin typeface="Times New Roman"/>
              </a:rPr>
              <a:t>&amp; </a:t>
            </a:r>
            <a:r>
              <a:rPr b="0" i="1" lang="en-US" sz="1700" spc="-1" strike="noStrike">
                <a:solidFill>
                  <a:srgbClr val="9cc0d2"/>
                </a:solidFill>
                <a:latin typeface="Garamond"/>
              </a:rPr>
              <a:t>Partn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9956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80960" y="914400"/>
            <a:ext cx="8663040" cy="59436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28440"/>
            <a:ext cx="9144000" cy="6858000"/>
          </a:xfrm>
          <a:prstGeom prst="rect">
            <a:avLst/>
          </a:prstGeom>
          <a:solidFill>
            <a:srgbClr val="9cc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aramond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0" y="485640"/>
            <a:ext cx="9144000" cy="6400800"/>
          </a:xfrm>
          <a:prstGeom prst="rect">
            <a:avLst/>
          </a:prstGeom>
          <a:solidFill>
            <a:srgbClr val="9cc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03360" y="-12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433404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0" y="0"/>
            <a:ext cx="2362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aramond"/>
              </a:rPr>
              <a:t>Constantine Cann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99564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80960" y="928800"/>
            <a:ext cx="8663040" cy="59436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8744040" y="6627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5EA0-A0D2-425A-A12B-C72443C151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800600" y="304920"/>
            <a:ext cx="365760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0" spc="-1" strike="noStrike">
                <a:solidFill>
                  <a:srgbClr val="ddf2ff"/>
                </a:solidFill>
                <a:latin typeface="ChelthmITC Bk BT"/>
              </a:rPr>
              <a:t>C</a:t>
            </a:r>
            <a:endParaRPr b="0" lang="en-US" sz="4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762120" y="318960"/>
            <a:ext cx="373356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0" spc="-1" strike="noStrike">
                <a:solidFill>
                  <a:srgbClr val="ddf2ff"/>
                </a:solidFill>
                <a:latin typeface="ChelthmITC Bk BT"/>
              </a:rPr>
              <a:t>C</a:t>
            </a:r>
            <a:endParaRPr b="0" lang="en-US" sz="4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MPj01784600000[1]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04920" y="91440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0" y="2147760"/>
            <a:ext cx="4572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Jeffrey I. Sh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tner, Constantine Can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w York City/Wash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shinder@constantinecanno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atio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FFERTY INTERNATIONAL CARDS &amp; PAYMENTS COUN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11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8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.S. Merchant Challenge to the Ho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ard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a/MasterCard Convinced Banks That Settlement Was Remote And Un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don’t think we should hold any delusions about it.  The damage claimed theoretically exceeds a billion.  The practice at issue 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undamental business pract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both associations,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st of adjusting that business practice is enorm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. . . [S]ettlement discussions before the parties have flexed their muscles [at] summary judgment strikes me as probably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aste of the Court’s 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”  (Visa’s Laurence Popofsky at June 26, 1997 hea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477120" y="1523880"/>
          <a:ext cx="3276360" cy="15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523880"/>
                    <a:ext cx="327636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onor All Cards Rules – Why They Were Anticompeti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AC tying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ced merchant accep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racompetitive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nks favor signature de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ebit reward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Higher PIN debit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ebit steering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N debit pena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d incentives to install PIN p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educed PIN debit vol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educed overall debit vol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1905120"/>
            <a:ext cx="1676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2438280"/>
            <a:ext cx="2514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971800"/>
            <a:ext cx="2514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3505320"/>
            <a:ext cx="2362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038480"/>
            <a:ext cx="2590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4038480"/>
            <a:ext cx="2895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5105520"/>
            <a:ext cx="3352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388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781680" y="4343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5638680"/>
            <a:ext cx="2743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48769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171840" y="4343400"/>
            <a:ext cx="25909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365760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33360" y="365760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9144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60020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urt’s Summary Judgment Findings In The Merchant Class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t denied all 11 of Visa/MC’s mo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t granted 6 of the merchants’ mo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it and credit are distinct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stence of a credit card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isa has market power in credi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stence of a tying arran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idence of a debit card market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Findings Can Be Used In Futur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hang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tying cases (i.e. corporate ca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48520" y="2209680"/>
            <a:ext cx="242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Settlement of the Merchan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nsatory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3,050,000,000 over ten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846,000,000 in reduced interchange fees fr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g. 1 – Dec. 31,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rgest antitrust recovery in history (by more than 3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rgest federal class action settlement in hi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junctive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olishing the Honor All Cards tying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datory visual and electronic identifiers for all debit cards by January 1,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exclusive debit deals between Visa and banks for two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809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hant Lawsuit-Long Term Fall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Implications Of Sett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a settlement service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a and MasterCard “litigation” over settlement service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Merchant Power And 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deals on debit inter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chant ste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wing merchant 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inished Association Power And 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 disenchantment with handling of merchant case and its sett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card issuers do not want to pay for debit card sett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it card issuers dissatisfied with lower interchange f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nal Frontier-Inter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3657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nal Frontier-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Necessary For Credit Card And Debit Card Networks To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Anti-Competi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Visa And MasterCard Survive In Their Current Form Without Inter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Changes In Association Ownership Structure Address Antitrust Issues Associated With Inter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ustralian Review Of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ctober 2000 – Interchange Found To Be Above-C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gust 2002 - RBA Announces Mandatory Reductions Of Interchange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ptember 2003 – Visa/MasterCard Appeals F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ctober 2003 – Visa/MasterCard Credit Card Interchange Rates Fell By Ha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ttle discernible impact on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ember 2003 – Australian Competition Authority Proposes Zero Interchange For De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stralian Competition tribunal overturns this propo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bruary 2005 – RBA Proposes Reductions In Signature And PIN Debit Inter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uropean Review of Inter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 1977 – Visa Enters European Market And Requests An Exemption From Certain EU Competition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5 – EC Grants Visa A Comfort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er Complaints Regarding Interchange In 1992 (British Retail Consortium) And 1997 (Eurocomme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EU Challenges Visa/MasterCard Inter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2000 – Preliminary Finding That Visa Interchange Is Price-F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1 – Visa Proposes To Lower Interchange 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002 – EC Exempts Visa Interchange Fees In Response To Visa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a reduced interchange fees based on cost-based bench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 found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change was anti-compet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lateral arrangements were in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ober 2003- EC Sends Statement Of Objections To MasterCard Regarding Inter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4 – Visa And MasterCard Agree To Reduce Cross-Border Inter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Issues Facing Visa and Master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cohe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from new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 for leg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preference by large banks for different ownershi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15000" y="2209680"/>
            <a:ext cx="3138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.K. Review of Inter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2000 - Cruickshank Report Is Rel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st justification for inter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ember 2000 – British Retail Consortium files compl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bruary 2003 – OFT Finding That MasterCard Common Interchange Fee Violates Competi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003 – OFT Report Recognizes Both Pro-And Anti-Competitive Aspects Of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 2004 – OFT Announces Formal Inquiry Into Visa Interchange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ecent Significant National Investigation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U.S. 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Card Interchange Survived Antitrust Challenge In The 198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a And MasterCard Extend Interchange To New Products, Including Debit Cards And Commercial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a And MasterCard Have Since Abused Their Power To Collectively Fix Interchange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32880" y="4126680"/>
            <a:ext cx="2853360" cy="2401920"/>
            <a:chOff x="6032880" y="4126680"/>
            <a:chExt cx="2853360" cy="2401920"/>
          </a:xfrm>
        </p:grpSpPr>
        <p:grpSp>
          <p:nvGrpSpPr>
            <p:cNvPr id="142" name=""/>
            <p:cNvGrpSpPr/>
            <p:nvPr/>
          </p:nvGrpSpPr>
          <p:grpSpPr>
            <a:xfrm>
              <a:off x="6032880" y="4126680"/>
              <a:ext cx="1553760" cy="2401920"/>
              <a:chOff x="6032880" y="4126680"/>
              <a:chExt cx="1553760" cy="240192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6032880" y="4232160"/>
                <a:ext cx="982080" cy="2271600"/>
                <a:chOff x="6032880" y="4232160"/>
                <a:chExt cx="982080" cy="22716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94760" y="6355440"/>
                  <a:ext cx="520200" cy="148320"/>
                </a:xfrm>
                <a:custGeom>
                  <a:avLst/>
                  <a:gdLst/>
                  <a:ahLst/>
                  <a:rect l="l" t="t" r="r" b="b"/>
                  <a:pathLst>
                    <a:path w="645" h="173">
                      <a:moveTo>
                        <a:pt x="385" y="0"/>
                      </a:moveTo>
                      <a:lnTo>
                        <a:pt x="327" y="6"/>
                      </a:lnTo>
                      <a:lnTo>
                        <a:pt x="264" y="13"/>
                      </a:lnTo>
                      <a:lnTo>
                        <a:pt x="222" y="22"/>
                      </a:lnTo>
                      <a:lnTo>
                        <a:pt x="192" y="18"/>
                      </a:lnTo>
                      <a:lnTo>
                        <a:pt x="145" y="19"/>
                      </a:lnTo>
                      <a:lnTo>
                        <a:pt x="81" y="26"/>
                      </a:lnTo>
                      <a:lnTo>
                        <a:pt x="41" y="36"/>
                      </a:lnTo>
                      <a:lnTo>
                        <a:pt x="16" y="49"/>
                      </a:lnTo>
                      <a:lnTo>
                        <a:pt x="4" y="60"/>
                      </a:lnTo>
                      <a:lnTo>
                        <a:pt x="0" y="79"/>
                      </a:lnTo>
                      <a:lnTo>
                        <a:pt x="9" y="91"/>
                      </a:lnTo>
                      <a:lnTo>
                        <a:pt x="24" y="103"/>
                      </a:lnTo>
                      <a:lnTo>
                        <a:pt x="46" y="113"/>
                      </a:lnTo>
                      <a:lnTo>
                        <a:pt x="75" y="123"/>
                      </a:lnTo>
                      <a:lnTo>
                        <a:pt x="110" y="130"/>
                      </a:lnTo>
                      <a:lnTo>
                        <a:pt x="200" y="138"/>
                      </a:lnTo>
                      <a:lnTo>
                        <a:pt x="442" y="158"/>
                      </a:lnTo>
                      <a:lnTo>
                        <a:pt x="645" y="173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6032880" y="4232160"/>
                  <a:ext cx="801360" cy="919440"/>
                  <a:chOff x="6032880" y="4232160"/>
                  <a:chExt cx="801360" cy="919440"/>
                </a:xfrm>
              </p:grpSpPr>
              <p:grpSp>
                <p:nvGrpSpPr>
                  <p:cNvPr id="146" name=""/>
                  <p:cNvGrpSpPr/>
                  <p:nvPr/>
                </p:nvGrpSpPr>
                <p:grpSpPr>
                  <a:xfrm>
                    <a:off x="6032880" y="4232160"/>
                    <a:ext cx="801360" cy="919080"/>
                    <a:chOff x="6032880" y="4232160"/>
                    <a:chExt cx="801360" cy="919080"/>
                  </a:xfrm>
                </p:grpSpPr>
                <p:grpSp>
                  <p:nvGrpSpPr>
                    <p:cNvPr id="147" name=""/>
                    <p:cNvGrpSpPr/>
                    <p:nvPr/>
                  </p:nvGrpSpPr>
                  <p:grpSpPr>
                    <a:xfrm>
                      <a:off x="6124680" y="4232160"/>
                      <a:ext cx="709560" cy="854280"/>
                      <a:chOff x="6124680" y="4232160"/>
                      <a:chExt cx="709560" cy="854280"/>
                    </a:xfrm>
                  </p:grpSpPr>
                  <p:grpSp>
                    <p:nvGrpSpPr>
                      <p:cNvPr id="148" name=""/>
                      <p:cNvGrpSpPr/>
                      <p:nvPr/>
                    </p:nvGrpSpPr>
                    <p:grpSpPr>
                      <a:xfrm>
                        <a:off x="6124680" y="4232160"/>
                        <a:ext cx="709560" cy="854280"/>
                        <a:chOff x="6124680" y="4232160"/>
                        <a:chExt cx="709560" cy="854280"/>
                      </a:xfrm>
                    </p:grpSpPr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6129360" y="4232160"/>
                          <a:ext cx="704880" cy="851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73" h="985">
                              <a:moveTo>
                                <a:pt x="697" y="85"/>
                              </a:moveTo>
                              <a:lnTo>
                                <a:pt x="774" y="0"/>
                              </a:lnTo>
                              <a:lnTo>
                                <a:pt x="796" y="1"/>
                              </a:lnTo>
                              <a:lnTo>
                                <a:pt x="816" y="5"/>
                              </a:lnTo>
                              <a:lnTo>
                                <a:pt x="835" y="14"/>
                              </a:lnTo>
                              <a:lnTo>
                                <a:pt x="849" y="24"/>
                              </a:lnTo>
                              <a:lnTo>
                                <a:pt x="860" y="35"/>
                              </a:lnTo>
                              <a:lnTo>
                                <a:pt x="869" y="52"/>
                              </a:lnTo>
                              <a:lnTo>
                                <a:pt x="873" y="75"/>
                              </a:lnTo>
                              <a:lnTo>
                                <a:pt x="872" y="96"/>
                              </a:lnTo>
                              <a:lnTo>
                                <a:pt x="63" y="985"/>
                              </a:lnTo>
                              <a:lnTo>
                                <a:pt x="0" y="917"/>
                              </a:lnTo>
                              <a:lnTo>
                                <a:pt x="697" y="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>
                          <a:off x="6124680" y="5024880"/>
                          <a:ext cx="57960" cy="61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2">
                              <a:moveTo>
                                <a:pt x="3" y="3"/>
                              </a:moveTo>
                              <a:lnTo>
                                <a:pt x="21" y="0"/>
                              </a:lnTo>
                              <a:lnTo>
                                <a:pt x="38" y="7"/>
                              </a:lnTo>
                              <a:lnTo>
                                <a:pt x="52" y="15"/>
                              </a:lnTo>
                              <a:lnTo>
                                <a:pt x="62" y="25"/>
                              </a:lnTo>
                              <a:lnTo>
                                <a:pt x="69" y="42"/>
                              </a:lnTo>
                              <a:lnTo>
                                <a:pt x="71" y="59"/>
                              </a:lnTo>
                              <a:lnTo>
                                <a:pt x="68" y="69"/>
                              </a:lnTo>
                              <a:lnTo>
                                <a:pt x="55" y="72"/>
                              </a:lnTo>
                              <a:lnTo>
                                <a:pt x="37" y="71"/>
                              </a:lnTo>
                              <a:lnTo>
                                <a:pt x="25" y="65"/>
                              </a:lnTo>
                              <a:lnTo>
                                <a:pt x="14" y="57"/>
                              </a:lnTo>
                              <a:lnTo>
                                <a:pt x="7" y="48"/>
                              </a:lnTo>
                              <a:lnTo>
                                <a:pt x="1" y="31"/>
                              </a:lnTo>
                              <a:lnTo>
                                <a:pt x="0" y="15"/>
                              </a:lnTo>
                              <a:lnTo>
                                <a:pt x="3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760" bIns="14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1" name=""/>
                      <p:cNvGrpSpPr/>
                      <p:nvPr/>
                    </p:nvGrpSpPr>
                    <p:grpSpPr>
                      <a:xfrm>
                        <a:off x="6279480" y="4237200"/>
                        <a:ext cx="552960" cy="634680"/>
                        <a:chOff x="6279480" y="4237200"/>
                        <a:chExt cx="552960" cy="634680"/>
                      </a:xfrm>
                    </p:grpSpPr>
                    <p:grpSp>
                      <p:nvGrpSpPr>
                        <p:cNvPr id="152" name=""/>
                        <p:cNvGrpSpPr/>
                        <p:nvPr/>
                      </p:nvGrpSpPr>
                      <p:grpSpPr>
                        <a:xfrm>
                          <a:off x="6690960" y="4237200"/>
                          <a:ext cx="141480" cy="116640"/>
                          <a:chOff x="6690960" y="4237200"/>
                          <a:chExt cx="141480" cy="116640"/>
                        </a:xfrm>
                      </p:grpSpPr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 flipV="1">
                            <a:off x="6690960" y="4237200"/>
                            <a:ext cx="86760" cy="97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 flipV="1">
                            <a:off x="6740640" y="4248720"/>
                            <a:ext cx="65880" cy="63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6920" bIns="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 flipV="1">
                            <a:off x="6730920" y="4264200"/>
                            <a:ext cx="93240" cy="896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2840" bIns="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 flipV="1">
                            <a:off x="6769800" y="4295160"/>
                            <a:ext cx="62640" cy="514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7" name=""/>
                        <p:cNvGrpSpPr/>
                        <p:nvPr/>
                      </p:nvGrpSpPr>
                      <p:grpSpPr>
                        <a:xfrm>
                          <a:off x="6279480" y="4642920"/>
                          <a:ext cx="188280" cy="228960"/>
                          <a:chOff x="6279480" y="4642920"/>
                          <a:chExt cx="188280" cy="228960"/>
                        </a:xfrm>
                      </p:grpSpPr>
                      <p:sp>
                        <p:nvSpPr>
                          <p:cNvPr id="158" name=""/>
                          <p:cNvSpPr/>
                          <p:nvPr/>
                        </p:nvSpPr>
                        <p:spPr>
                          <a:xfrm flipV="1">
                            <a:off x="6279480" y="4767120"/>
                            <a:ext cx="64440" cy="806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3840" bIns="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9" name=""/>
                          <p:cNvSpPr/>
                          <p:nvPr/>
                        </p:nvSpPr>
                        <p:spPr>
                          <a:xfrm flipV="1">
                            <a:off x="6314760" y="4816800"/>
                            <a:ext cx="37080" cy="432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" bIns="-3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0" name=""/>
                          <p:cNvSpPr/>
                          <p:nvPr/>
                        </p:nvSpPr>
                        <p:spPr>
                          <a:xfrm flipV="1">
                            <a:off x="6329520" y="4708080"/>
                            <a:ext cx="138240" cy="163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1" name=""/>
                          <p:cNvSpPr/>
                          <p:nvPr/>
                        </p:nvSpPr>
                        <p:spPr>
                          <a:xfrm flipV="1">
                            <a:off x="6396840" y="4642920"/>
                            <a:ext cx="70920" cy="75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800" bIns="28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032880" y="4741560"/>
                      <a:ext cx="429480" cy="40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1" h="475">
                          <a:moveTo>
                            <a:pt x="0" y="224"/>
                          </a:moveTo>
                          <a:lnTo>
                            <a:pt x="11" y="189"/>
                          </a:lnTo>
                          <a:lnTo>
                            <a:pt x="28" y="152"/>
                          </a:lnTo>
                          <a:lnTo>
                            <a:pt x="47" y="123"/>
                          </a:lnTo>
                          <a:lnTo>
                            <a:pt x="69" y="91"/>
                          </a:lnTo>
                          <a:lnTo>
                            <a:pt x="91" y="67"/>
                          </a:lnTo>
                          <a:lnTo>
                            <a:pt x="118" y="43"/>
                          </a:lnTo>
                          <a:lnTo>
                            <a:pt x="146" y="22"/>
                          </a:lnTo>
                          <a:lnTo>
                            <a:pt x="177" y="0"/>
                          </a:lnTo>
                          <a:lnTo>
                            <a:pt x="194" y="19"/>
                          </a:lnTo>
                          <a:lnTo>
                            <a:pt x="216" y="39"/>
                          </a:lnTo>
                          <a:lnTo>
                            <a:pt x="241" y="60"/>
                          </a:lnTo>
                          <a:lnTo>
                            <a:pt x="275" y="88"/>
                          </a:lnTo>
                          <a:lnTo>
                            <a:pt x="308" y="114"/>
                          </a:lnTo>
                          <a:lnTo>
                            <a:pt x="342" y="137"/>
                          </a:lnTo>
                          <a:lnTo>
                            <a:pt x="381" y="164"/>
                          </a:lnTo>
                          <a:lnTo>
                            <a:pt x="422" y="188"/>
                          </a:lnTo>
                          <a:lnTo>
                            <a:pt x="457" y="206"/>
                          </a:lnTo>
                          <a:lnTo>
                            <a:pt x="490" y="225"/>
                          </a:lnTo>
                          <a:lnTo>
                            <a:pt x="531" y="246"/>
                          </a:lnTo>
                          <a:lnTo>
                            <a:pt x="362" y="475"/>
                          </a:lnTo>
                          <a:lnTo>
                            <a:pt x="331" y="444"/>
                          </a:lnTo>
                          <a:lnTo>
                            <a:pt x="295" y="410"/>
                          </a:lnTo>
                          <a:lnTo>
                            <a:pt x="273" y="384"/>
                          </a:lnTo>
                          <a:lnTo>
                            <a:pt x="246" y="360"/>
                          </a:lnTo>
                          <a:lnTo>
                            <a:pt x="214" y="339"/>
                          </a:lnTo>
                          <a:lnTo>
                            <a:pt x="172" y="310"/>
                          </a:lnTo>
                          <a:lnTo>
                            <a:pt x="135" y="289"/>
                          </a:lnTo>
                          <a:lnTo>
                            <a:pt x="96" y="268"/>
                          </a:lnTo>
                          <a:lnTo>
                            <a:pt x="64" y="249"/>
                          </a:lnTo>
                          <a:lnTo>
                            <a:pt x="28" y="233"/>
                          </a:lnTo>
                          <a:lnTo>
                            <a:pt x="0" y="224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"/>
                  <p:cNvSpPr/>
                  <p:nvPr/>
                </p:nvSpPr>
                <p:spPr>
                  <a:xfrm>
                    <a:off x="6323400" y="4954680"/>
                    <a:ext cx="13716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227">
                        <a:moveTo>
                          <a:pt x="169" y="0"/>
                        </a:moveTo>
                        <a:lnTo>
                          <a:pt x="145" y="10"/>
                        </a:lnTo>
                        <a:lnTo>
                          <a:pt x="123" y="24"/>
                        </a:lnTo>
                        <a:lnTo>
                          <a:pt x="103" y="41"/>
                        </a:lnTo>
                        <a:lnTo>
                          <a:pt x="84" y="61"/>
                        </a:lnTo>
                        <a:lnTo>
                          <a:pt x="62" y="86"/>
                        </a:lnTo>
                        <a:lnTo>
                          <a:pt x="49" y="106"/>
                        </a:lnTo>
                        <a:lnTo>
                          <a:pt x="32" y="133"/>
                        </a:lnTo>
                        <a:lnTo>
                          <a:pt x="18" y="162"/>
                        </a:lnTo>
                        <a:lnTo>
                          <a:pt x="5" y="192"/>
                        </a:lnTo>
                        <a:lnTo>
                          <a:pt x="0" y="227"/>
                        </a:lnTo>
                        <a:lnTo>
                          <a:pt x="25" y="220"/>
                        </a:lnTo>
                        <a:lnTo>
                          <a:pt x="45" y="210"/>
                        </a:lnTo>
                        <a:lnTo>
                          <a:pt x="71" y="196"/>
                        </a:lnTo>
                        <a:lnTo>
                          <a:pt x="93" y="176"/>
                        </a:lnTo>
                        <a:lnTo>
                          <a:pt x="115" y="153"/>
                        </a:lnTo>
                        <a:lnTo>
                          <a:pt x="132" y="129"/>
                        </a:lnTo>
                        <a:lnTo>
                          <a:pt x="145" y="105"/>
                        </a:lnTo>
                        <a:lnTo>
                          <a:pt x="157" y="75"/>
                        </a:lnTo>
                        <a:lnTo>
                          <a:pt x="165" y="51"/>
                        </a:lnTo>
                        <a:lnTo>
                          <a:pt x="167" y="24"/>
                        </a:lnTo>
                        <a:lnTo>
                          <a:pt x="169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4" name=""/>
              <p:cNvGrpSpPr/>
              <p:nvPr/>
            </p:nvGrpSpPr>
            <p:grpSpPr>
              <a:xfrm>
                <a:off x="6366960" y="4126680"/>
                <a:ext cx="1219680" cy="2401920"/>
                <a:chOff x="6366960" y="4126680"/>
                <a:chExt cx="1219680" cy="240192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6366960" y="4126680"/>
                  <a:ext cx="1219680" cy="2401920"/>
                  <a:chOff x="6366960" y="4126680"/>
                  <a:chExt cx="1219680" cy="2401920"/>
                </a:xfrm>
              </p:grpSpPr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6622200" y="5779080"/>
                    <a:ext cx="716400" cy="749520"/>
                    <a:chOff x="6622200" y="5779080"/>
                    <a:chExt cx="716400" cy="749520"/>
                  </a:xfrm>
                </p:grpSpPr>
                <p:grpSp>
                  <p:nvGrpSpPr>
                    <p:cNvPr id="167" name=""/>
                    <p:cNvGrpSpPr/>
                    <p:nvPr/>
                  </p:nvGrpSpPr>
                  <p:grpSpPr>
                    <a:xfrm>
                      <a:off x="6750000" y="5796000"/>
                      <a:ext cx="588600" cy="499320"/>
                      <a:chOff x="6750000" y="5796000"/>
                      <a:chExt cx="588600" cy="499320"/>
                    </a:xfrm>
                  </p:grpSpPr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6750000" y="5796000"/>
                        <a:ext cx="588600" cy="49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9" h="579">
                            <a:moveTo>
                              <a:pt x="193" y="0"/>
                            </a:moveTo>
                            <a:lnTo>
                              <a:pt x="256" y="15"/>
                            </a:lnTo>
                            <a:lnTo>
                              <a:pt x="205" y="130"/>
                            </a:lnTo>
                            <a:lnTo>
                              <a:pt x="158" y="225"/>
                            </a:lnTo>
                            <a:lnTo>
                              <a:pt x="128" y="295"/>
                            </a:lnTo>
                            <a:lnTo>
                              <a:pt x="119" y="325"/>
                            </a:lnTo>
                            <a:lnTo>
                              <a:pt x="121" y="349"/>
                            </a:lnTo>
                            <a:lnTo>
                              <a:pt x="132" y="366"/>
                            </a:lnTo>
                            <a:lnTo>
                              <a:pt x="155" y="383"/>
                            </a:lnTo>
                            <a:lnTo>
                              <a:pt x="186" y="401"/>
                            </a:lnTo>
                            <a:lnTo>
                              <a:pt x="219" y="413"/>
                            </a:lnTo>
                            <a:lnTo>
                              <a:pt x="264" y="427"/>
                            </a:lnTo>
                            <a:lnTo>
                              <a:pt x="307" y="434"/>
                            </a:lnTo>
                            <a:lnTo>
                              <a:pt x="360" y="438"/>
                            </a:lnTo>
                            <a:lnTo>
                              <a:pt x="408" y="434"/>
                            </a:lnTo>
                            <a:lnTo>
                              <a:pt x="456" y="427"/>
                            </a:lnTo>
                            <a:lnTo>
                              <a:pt x="509" y="416"/>
                            </a:lnTo>
                            <a:lnTo>
                              <a:pt x="527" y="420"/>
                            </a:lnTo>
                            <a:lnTo>
                              <a:pt x="534" y="424"/>
                            </a:lnTo>
                            <a:lnTo>
                              <a:pt x="537" y="434"/>
                            </a:lnTo>
                            <a:lnTo>
                              <a:pt x="530" y="454"/>
                            </a:lnTo>
                            <a:lnTo>
                              <a:pt x="523" y="465"/>
                            </a:lnTo>
                            <a:lnTo>
                              <a:pt x="533" y="470"/>
                            </a:lnTo>
                            <a:lnTo>
                              <a:pt x="606" y="457"/>
                            </a:lnTo>
                            <a:lnTo>
                              <a:pt x="623" y="461"/>
                            </a:lnTo>
                            <a:lnTo>
                              <a:pt x="633" y="468"/>
                            </a:lnTo>
                            <a:lnTo>
                              <a:pt x="637" y="480"/>
                            </a:lnTo>
                            <a:lnTo>
                              <a:pt x="630" y="490"/>
                            </a:lnTo>
                            <a:lnTo>
                              <a:pt x="617" y="498"/>
                            </a:lnTo>
                            <a:lnTo>
                              <a:pt x="601" y="508"/>
                            </a:lnTo>
                            <a:lnTo>
                              <a:pt x="613" y="515"/>
                            </a:lnTo>
                            <a:lnTo>
                              <a:pt x="644" y="512"/>
                            </a:lnTo>
                            <a:lnTo>
                              <a:pt x="670" y="515"/>
                            </a:lnTo>
                            <a:lnTo>
                              <a:pt x="695" y="524"/>
                            </a:lnTo>
                            <a:lnTo>
                              <a:pt x="724" y="537"/>
                            </a:lnTo>
                            <a:lnTo>
                              <a:pt x="729" y="546"/>
                            </a:lnTo>
                            <a:lnTo>
                              <a:pt x="728" y="559"/>
                            </a:lnTo>
                            <a:lnTo>
                              <a:pt x="715" y="568"/>
                            </a:lnTo>
                            <a:lnTo>
                              <a:pt x="689" y="572"/>
                            </a:lnTo>
                            <a:lnTo>
                              <a:pt x="647" y="575"/>
                            </a:lnTo>
                            <a:lnTo>
                              <a:pt x="600" y="572"/>
                            </a:lnTo>
                            <a:lnTo>
                              <a:pt x="547" y="576"/>
                            </a:lnTo>
                            <a:lnTo>
                              <a:pt x="512" y="579"/>
                            </a:lnTo>
                            <a:lnTo>
                              <a:pt x="445" y="575"/>
                            </a:lnTo>
                            <a:lnTo>
                              <a:pt x="411" y="568"/>
                            </a:lnTo>
                            <a:lnTo>
                              <a:pt x="361" y="559"/>
                            </a:lnTo>
                            <a:lnTo>
                              <a:pt x="279" y="556"/>
                            </a:lnTo>
                            <a:lnTo>
                              <a:pt x="0" y="474"/>
                            </a:lnTo>
                            <a:lnTo>
                              <a:pt x="34" y="276"/>
                            </a:lnTo>
                            <a:lnTo>
                              <a:pt x="193" y="0"/>
                            </a:lnTo>
                            <a:close/>
                          </a:path>
                        </a:pathLst>
                      </a:custGeom>
                      <a:solidFill>
                        <a:srgbClr val="ff9f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6993360" y="6170760"/>
                        <a:ext cx="936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" h="31">
                            <a:moveTo>
                              <a:pt x="0" y="0"/>
                            </a:moveTo>
                            <a:lnTo>
                              <a:pt x="60" y="29"/>
                            </a:lnTo>
                            <a:lnTo>
                              <a:pt x="86" y="29"/>
                            </a:lnTo>
                            <a:lnTo>
                              <a:pt x="117" y="31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" name=""/>
                    <p:cNvGrpSpPr/>
                    <p:nvPr/>
                  </p:nvGrpSpPr>
                  <p:grpSpPr>
                    <a:xfrm>
                      <a:off x="6622200" y="5779080"/>
                      <a:ext cx="592560" cy="749520"/>
                      <a:chOff x="6622200" y="5779080"/>
                      <a:chExt cx="592560" cy="749520"/>
                    </a:xfrm>
                  </p:grpSpPr>
                  <p:sp>
                    <p:nvSpPr>
                      <p:cNvPr id="171" name=""/>
                      <p:cNvSpPr/>
                      <p:nvPr/>
                    </p:nvSpPr>
                    <p:spPr>
                      <a:xfrm>
                        <a:off x="6622200" y="5779080"/>
                        <a:ext cx="592560" cy="74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4" h="867">
                            <a:moveTo>
                              <a:pt x="265" y="0"/>
                            </a:moveTo>
                            <a:lnTo>
                              <a:pt x="383" y="23"/>
                            </a:lnTo>
                            <a:lnTo>
                              <a:pt x="377" y="50"/>
                            </a:lnTo>
                            <a:lnTo>
                              <a:pt x="364" y="81"/>
                            </a:lnTo>
                            <a:lnTo>
                              <a:pt x="351" y="108"/>
                            </a:lnTo>
                            <a:lnTo>
                              <a:pt x="333" y="139"/>
                            </a:lnTo>
                            <a:lnTo>
                              <a:pt x="313" y="168"/>
                            </a:lnTo>
                            <a:lnTo>
                              <a:pt x="293" y="193"/>
                            </a:lnTo>
                            <a:lnTo>
                              <a:pt x="280" y="229"/>
                            </a:lnTo>
                            <a:lnTo>
                              <a:pt x="258" y="279"/>
                            </a:lnTo>
                            <a:lnTo>
                              <a:pt x="235" y="324"/>
                            </a:lnTo>
                            <a:lnTo>
                              <a:pt x="226" y="340"/>
                            </a:lnTo>
                            <a:lnTo>
                              <a:pt x="221" y="358"/>
                            </a:lnTo>
                            <a:lnTo>
                              <a:pt x="216" y="381"/>
                            </a:lnTo>
                            <a:lnTo>
                              <a:pt x="212" y="407"/>
                            </a:lnTo>
                            <a:lnTo>
                              <a:pt x="208" y="432"/>
                            </a:lnTo>
                            <a:lnTo>
                              <a:pt x="209" y="455"/>
                            </a:lnTo>
                            <a:lnTo>
                              <a:pt x="216" y="473"/>
                            </a:lnTo>
                            <a:lnTo>
                              <a:pt x="231" y="489"/>
                            </a:lnTo>
                            <a:lnTo>
                              <a:pt x="262" y="496"/>
                            </a:lnTo>
                            <a:lnTo>
                              <a:pt x="293" y="508"/>
                            </a:lnTo>
                            <a:lnTo>
                              <a:pt x="326" y="520"/>
                            </a:lnTo>
                            <a:lnTo>
                              <a:pt x="364" y="536"/>
                            </a:lnTo>
                            <a:lnTo>
                              <a:pt x="387" y="539"/>
                            </a:lnTo>
                            <a:lnTo>
                              <a:pt x="411" y="545"/>
                            </a:lnTo>
                            <a:lnTo>
                              <a:pt x="434" y="553"/>
                            </a:lnTo>
                            <a:lnTo>
                              <a:pt x="457" y="563"/>
                            </a:lnTo>
                            <a:lnTo>
                              <a:pt x="475" y="576"/>
                            </a:lnTo>
                            <a:lnTo>
                              <a:pt x="493" y="592"/>
                            </a:lnTo>
                            <a:lnTo>
                              <a:pt x="506" y="587"/>
                            </a:lnTo>
                            <a:lnTo>
                              <a:pt x="522" y="586"/>
                            </a:lnTo>
                            <a:lnTo>
                              <a:pt x="532" y="590"/>
                            </a:lnTo>
                            <a:lnTo>
                              <a:pt x="538" y="596"/>
                            </a:lnTo>
                            <a:lnTo>
                              <a:pt x="546" y="609"/>
                            </a:lnTo>
                            <a:lnTo>
                              <a:pt x="575" y="610"/>
                            </a:lnTo>
                            <a:lnTo>
                              <a:pt x="614" y="614"/>
                            </a:lnTo>
                            <a:lnTo>
                              <a:pt x="658" y="620"/>
                            </a:lnTo>
                            <a:lnTo>
                              <a:pt x="697" y="623"/>
                            </a:lnTo>
                            <a:lnTo>
                              <a:pt x="721" y="627"/>
                            </a:lnTo>
                            <a:lnTo>
                              <a:pt x="731" y="633"/>
                            </a:lnTo>
                            <a:lnTo>
                              <a:pt x="734" y="641"/>
                            </a:lnTo>
                            <a:lnTo>
                              <a:pt x="731" y="648"/>
                            </a:lnTo>
                            <a:lnTo>
                              <a:pt x="718" y="657"/>
                            </a:lnTo>
                            <a:lnTo>
                              <a:pt x="697" y="665"/>
                            </a:lnTo>
                            <a:lnTo>
                              <a:pt x="668" y="675"/>
                            </a:lnTo>
                            <a:lnTo>
                              <a:pt x="643" y="680"/>
                            </a:lnTo>
                            <a:lnTo>
                              <a:pt x="619" y="681"/>
                            </a:lnTo>
                            <a:lnTo>
                              <a:pt x="599" y="683"/>
                            </a:lnTo>
                            <a:lnTo>
                              <a:pt x="630" y="700"/>
                            </a:lnTo>
                            <a:lnTo>
                              <a:pt x="653" y="712"/>
                            </a:lnTo>
                            <a:lnTo>
                              <a:pt x="668" y="724"/>
                            </a:lnTo>
                            <a:lnTo>
                              <a:pt x="677" y="737"/>
                            </a:lnTo>
                            <a:lnTo>
                              <a:pt x="675" y="751"/>
                            </a:lnTo>
                            <a:lnTo>
                              <a:pt x="668" y="758"/>
                            </a:lnTo>
                            <a:lnTo>
                              <a:pt x="657" y="762"/>
                            </a:lnTo>
                            <a:lnTo>
                              <a:pt x="637" y="764"/>
                            </a:lnTo>
                            <a:lnTo>
                              <a:pt x="610" y="761"/>
                            </a:lnTo>
                            <a:lnTo>
                              <a:pt x="583" y="756"/>
                            </a:lnTo>
                            <a:lnTo>
                              <a:pt x="569" y="755"/>
                            </a:lnTo>
                            <a:lnTo>
                              <a:pt x="559" y="758"/>
                            </a:lnTo>
                            <a:lnTo>
                              <a:pt x="553" y="765"/>
                            </a:lnTo>
                            <a:lnTo>
                              <a:pt x="556" y="774"/>
                            </a:lnTo>
                            <a:lnTo>
                              <a:pt x="565" y="782"/>
                            </a:lnTo>
                            <a:lnTo>
                              <a:pt x="576" y="795"/>
                            </a:lnTo>
                            <a:lnTo>
                              <a:pt x="599" y="819"/>
                            </a:lnTo>
                            <a:lnTo>
                              <a:pt x="611" y="838"/>
                            </a:lnTo>
                            <a:lnTo>
                              <a:pt x="611" y="850"/>
                            </a:lnTo>
                            <a:lnTo>
                              <a:pt x="606" y="862"/>
                            </a:lnTo>
                            <a:lnTo>
                              <a:pt x="596" y="866"/>
                            </a:lnTo>
                            <a:lnTo>
                              <a:pt x="582" y="867"/>
                            </a:lnTo>
                            <a:lnTo>
                              <a:pt x="552" y="860"/>
                            </a:lnTo>
                            <a:lnTo>
                              <a:pt x="522" y="855"/>
                            </a:lnTo>
                            <a:lnTo>
                              <a:pt x="495" y="850"/>
                            </a:lnTo>
                            <a:lnTo>
                              <a:pt x="447" y="835"/>
                            </a:lnTo>
                            <a:lnTo>
                              <a:pt x="408" y="815"/>
                            </a:lnTo>
                            <a:lnTo>
                              <a:pt x="363" y="789"/>
                            </a:lnTo>
                            <a:lnTo>
                              <a:pt x="330" y="768"/>
                            </a:lnTo>
                            <a:lnTo>
                              <a:pt x="294" y="745"/>
                            </a:lnTo>
                            <a:lnTo>
                              <a:pt x="258" y="718"/>
                            </a:lnTo>
                            <a:lnTo>
                              <a:pt x="222" y="691"/>
                            </a:lnTo>
                            <a:lnTo>
                              <a:pt x="178" y="661"/>
                            </a:lnTo>
                            <a:lnTo>
                              <a:pt x="141" y="640"/>
                            </a:lnTo>
                            <a:lnTo>
                              <a:pt x="94" y="614"/>
                            </a:lnTo>
                            <a:lnTo>
                              <a:pt x="57" y="592"/>
                            </a:lnTo>
                            <a:lnTo>
                              <a:pt x="36" y="576"/>
                            </a:lnTo>
                            <a:lnTo>
                              <a:pt x="16" y="560"/>
                            </a:lnTo>
                            <a:lnTo>
                              <a:pt x="2" y="539"/>
                            </a:lnTo>
                            <a:lnTo>
                              <a:pt x="0" y="519"/>
                            </a:lnTo>
                            <a:lnTo>
                              <a:pt x="6" y="501"/>
                            </a:lnTo>
                            <a:lnTo>
                              <a:pt x="20" y="485"/>
                            </a:lnTo>
                            <a:lnTo>
                              <a:pt x="46" y="466"/>
                            </a:lnTo>
                            <a:lnTo>
                              <a:pt x="94" y="398"/>
                            </a:lnTo>
                            <a:lnTo>
                              <a:pt x="128" y="350"/>
                            </a:lnTo>
                            <a:lnTo>
                              <a:pt x="145" y="313"/>
                            </a:lnTo>
                            <a:lnTo>
                              <a:pt x="238" y="70"/>
                            </a:lnTo>
                            <a:lnTo>
                              <a:pt x="265" y="0"/>
                            </a:lnTo>
                            <a:close/>
                          </a:path>
                        </a:pathLst>
                      </a:custGeom>
                      <a:solidFill>
                        <a:srgbClr val="ffbf1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2" name=""/>
                      <p:cNvGrpSpPr/>
                      <p:nvPr/>
                    </p:nvGrpSpPr>
                    <p:grpSpPr>
                      <a:xfrm>
                        <a:off x="6687000" y="6148800"/>
                        <a:ext cx="383760" cy="208440"/>
                        <a:chOff x="6687000" y="6148800"/>
                        <a:chExt cx="383760" cy="208440"/>
                      </a:xfrm>
                    </p:grpSpPr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6995160" y="6292080"/>
                          <a:ext cx="30600" cy="65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" h="75">
                              <a:moveTo>
                                <a:pt x="31" y="0"/>
                              </a:moveTo>
                              <a:lnTo>
                                <a:pt x="36" y="10"/>
                              </a:lnTo>
                              <a:lnTo>
                                <a:pt x="39" y="21"/>
                              </a:lnTo>
                              <a:lnTo>
                                <a:pt x="37" y="34"/>
                              </a:lnTo>
                              <a:lnTo>
                                <a:pt x="31" y="51"/>
                              </a:lnTo>
                              <a:lnTo>
                                <a:pt x="26" y="60"/>
                              </a:lnTo>
                              <a:lnTo>
                                <a:pt x="14" y="68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>
                          <a:off x="7045200" y="6305760"/>
                          <a:ext cx="25560" cy="50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58">
                              <a:moveTo>
                                <a:pt x="21" y="0"/>
                              </a:moveTo>
                              <a:lnTo>
                                <a:pt x="28" y="14"/>
                              </a:lnTo>
                              <a:lnTo>
                                <a:pt x="31" y="22"/>
                              </a:lnTo>
                              <a:lnTo>
                                <a:pt x="28" y="32"/>
                              </a:lnTo>
                              <a:lnTo>
                                <a:pt x="23" y="41"/>
                              </a:lnTo>
                              <a:lnTo>
                                <a:pt x="14" y="48"/>
                              </a:lnTo>
                              <a:lnTo>
                                <a:pt x="0" y="58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" bIns="3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>
                          <a:off x="6687000" y="6148800"/>
                          <a:ext cx="45000" cy="12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143">
                              <a:moveTo>
                                <a:pt x="55" y="0"/>
                              </a:moveTo>
                              <a:lnTo>
                                <a:pt x="38" y="15"/>
                              </a:lnTo>
                              <a:lnTo>
                                <a:pt x="21" y="37"/>
                              </a:lnTo>
                              <a:lnTo>
                                <a:pt x="11" y="56"/>
                              </a:lnTo>
                              <a:lnTo>
                                <a:pt x="4" y="71"/>
                              </a:lnTo>
                              <a:lnTo>
                                <a:pt x="0" y="88"/>
                              </a:lnTo>
                              <a:lnTo>
                                <a:pt x="0" y="103"/>
                              </a:lnTo>
                              <a:lnTo>
                                <a:pt x="4" y="120"/>
                              </a:lnTo>
                              <a:lnTo>
                                <a:pt x="15" y="143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6366960" y="4126680"/>
                    <a:ext cx="1219680" cy="1732320"/>
                    <a:chOff x="6366960" y="4126680"/>
                    <a:chExt cx="1219680" cy="1732320"/>
                  </a:xfrm>
                </p:grpSpPr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366960" y="4126680"/>
                      <a:ext cx="1219680" cy="1732320"/>
                      <a:chOff x="6366960" y="4126680"/>
                      <a:chExt cx="1219680" cy="1732320"/>
                    </a:xfrm>
                  </p:grpSpPr>
                  <p:grpSp>
                    <p:nvGrpSpPr>
                      <p:cNvPr id="178" name=""/>
                      <p:cNvGrpSpPr/>
                      <p:nvPr/>
                    </p:nvGrpSpPr>
                    <p:grpSpPr>
                      <a:xfrm>
                        <a:off x="6366960" y="4281840"/>
                        <a:ext cx="375840" cy="452520"/>
                        <a:chOff x="6366960" y="4281840"/>
                        <a:chExt cx="375840" cy="452520"/>
                      </a:xfrm>
                    </p:grpSpPr>
                    <p:grpSp>
                      <p:nvGrpSpPr>
                        <p:cNvPr id="179" name=""/>
                        <p:cNvGrpSpPr/>
                        <p:nvPr/>
                      </p:nvGrpSpPr>
                      <p:grpSpPr>
                        <a:xfrm>
                          <a:off x="6366960" y="4445640"/>
                          <a:ext cx="277200" cy="256680"/>
                          <a:chOff x="6366960" y="4445640"/>
                          <a:chExt cx="277200" cy="256680"/>
                        </a:xfrm>
                      </p:grpSpPr>
                      <p:sp>
                        <p:nvSpPr>
                          <p:cNvPr id="180" name=""/>
                          <p:cNvSpPr/>
                          <p:nvPr/>
                        </p:nvSpPr>
                        <p:spPr>
                          <a:xfrm>
                            <a:off x="6366960" y="4445640"/>
                            <a:ext cx="277200" cy="256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46" h="297">
                                <a:moveTo>
                                  <a:pt x="199" y="0"/>
                                </a:moveTo>
                                <a:lnTo>
                                  <a:pt x="131" y="11"/>
                                </a:lnTo>
                                <a:lnTo>
                                  <a:pt x="118" y="17"/>
                                </a:lnTo>
                                <a:lnTo>
                                  <a:pt x="132" y="60"/>
                                </a:lnTo>
                                <a:lnTo>
                                  <a:pt x="111" y="60"/>
                                </a:lnTo>
                                <a:lnTo>
                                  <a:pt x="103" y="64"/>
                                </a:lnTo>
                                <a:lnTo>
                                  <a:pt x="94" y="124"/>
                                </a:lnTo>
                                <a:lnTo>
                                  <a:pt x="80" y="119"/>
                                </a:lnTo>
                                <a:lnTo>
                                  <a:pt x="44" y="136"/>
                                </a:lnTo>
                                <a:lnTo>
                                  <a:pt x="7" y="166"/>
                                </a:lnTo>
                                <a:lnTo>
                                  <a:pt x="0" y="196"/>
                                </a:lnTo>
                                <a:lnTo>
                                  <a:pt x="9" y="225"/>
                                </a:lnTo>
                                <a:lnTo>
                                  <a:pt x="24" y="242"/>
                                </a:lnTo>
                                <a:lnTo>
                                  <a:pt x="37" y="252"/>
                                </a:lnTo>
                                <a:lnTo>
                                  <a:pt x="59" y="246"/>
                                </a:lnTo>
                                <a:lnTo>
                                  <a:pt x="84" y="243"/>
                                </a:lnTo>
                                <a:lnTo>
                                  <a:pt x="107" y="247"/>
                                </a:lnTo>
                                <a:lnTo>
                                  <a:pt x="131" y="255"/>
                                </a:lnTo>
                                <a:lnTo>
                                  <a:pt x="157" y="269"/>
                                </a:lnTo>
                                <a:lnTo>
                                  <a:pt x="186" y="297"/>
                                </a:lnTo>
                                <a:lnTo>
                                  <a:pt x="268" y="294"/>
                                </a:lnTo>
                                <a:lnTo>
                                  <a:pt x="346" y="269"/>
                                </a:lnTo>
                                <a:lnTo>
                                  <a:pt x="225" y="0"/>
                                </a:lnTo>
                                <a:lnTo>
                                  <a:pt x="19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1" name=""/>
                          <p:cNvSpPr/>
                          <p:nvPr/>
                        </p:nvSpPr>
                        <p:spPr>
                          <a:xfrm>
                            <a:off x="6444360" y="4550760"/>
                            <a:ext cx="104760" cy="34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2240" bIns="-12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2" name=""/>
                          <p:cNvSpPr/>
                          <p:nvPr/>
                        </p:nvSpPr>
                        <p:spPr>
                          <a:xfrm>
                            <a:off x="6471720" y="4493880"/>
                            <a:ext cx="78840" cy="118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920" bIns="-34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6523560" y="4533840"/>
                          <a:ext cx="108000" cy="17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4" h="199">
                              <a:moveTo>
                                <a:pt x="0" y="17"/>
                              </a:moveTo>
                              <a:lnTo>
                                <a:pt x="70" y="0"/>
                              </a:lnTo>
                              <a:lnTo>
                                <a:pt x="134" y="178"/>
                              </a:lnTo>
                              <a:lnTo>
                                <a:pt x="55" y="199"/>
                              </a:lnTo>
                              <a:lnTo>
                                <a:pt x="0" y="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6486480" y="4580640"/>
                          <a:ext cx="106200" cy="153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2" h="178">
                              <a:moveTo>
                                <a:pt x="83" y="0"/>
                              </a:moveTo>
                              <a:lnTo>
                                <a:pt x="42" y="2"/>
                              </a:lnTo>
                              <a:lnTo>
                                <a:pt x="17" y="36"/>
                              </a:lnTo>
                              <a:lnTo>
                                <a:pt x="12" y="53"/>
                              </a:lnTo>
                              <a:lnTo>
                                <a:pt x="17" y="70"/>
                              </a:lnTo>
                              <a:lnTo>
                                <a:pt x="38" y="96"/>
                              </a:lnTo>
                              <a:lnTo>
                                <a:pt x="12" y="121"/>
                              </a:lnTo>
                              <a:lnTo>
                                <a:pt x="0" y="141"/>
                              </a:lnTo>
                              <a:lnTo>
                                <a:pt x="7" y="161"/>
                              </a:lnTo>
                              <a:lnTo>
                                <a:pt x="19" y="178"/>
                              </a:lnTo>
                              <a:lnTo>
                                <a:pt x="58" y="175"/>
                              </a:lnTo>
                              <a:lnTo>
                                <a:pt x="100" y="163"/>
                              </a:lnTo>
                              <a:lnTo>
                                <a:pt x="118" y="141"/>
                              </a:lnTo>
                              <a:lnTo>
                                <a:pt x="132" y="36"/>
                              </a:lnTo>
                              <a:lnTo>
                                <a:pt x="100" y="23"/>
                              </a:lnTo>
                              <a:lnTo>
                                <a:pt x="8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>
                          <a:off x="6497640" y="4281840"/>
                          <a:ext cx="245160" cy="28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6" h="333">
                              <a:moveTo>
                                <a:pt x="127" y="319"/>
                              </a:moveTo>
                              <a:lnTo>
                                <a:pt x="88" y="332"/>
                              </a:lnTo>
                              <a:lnTo>
                                <a:pt x="76" y="333"/>
                              </a:lnTo>
                              <a:lnTo>
                                <a:pt x="64" y="329"/>
                              </a:lnTo>
                              <a:lnTo>
                                <a:pt x="56" y="316"/>
                              </a:lnTo>
                              <a:lnTo>
                                <a:pt x="17" y="255"/>
                              </a:lnTo>
                              <a:lnTo>
                                <a:pt x="0" y="204"/>
                              </a:lnTo>
                              <a:lnTo>
                                <a:pt x="7" y="144"/>
                              </a:lnTo>
                              <a:lnTo>
                                <a:pt x="20" y="89"/>
                              </a:lnTo>
                              <a:lnTo>
                                <a:pt x="30" y="89"/>
                              </a:lnTo>
                              <a:lnTo>
                                <a:pt x="56" y="97"/>
                              </a:lnTo>
                              <a:lnTo>
                                <a:pt x="97" y="118"/>
                              </a:lnTo>
                              <a:lnTo>
                                <a:pt x="101" y="77"/>
                              </a:lnTo>
                              <a:lnTo>
                                <a:pt x="110" y="56"/>
                              </a:lnTo>
                              <a:lnTo>
                                <a:pt x="133" y="46"/>
                              </a:lnTo>
                              <a:lnTo>
                                <a:pt x="162" y="42"/>
                              </a:lnTo>
                              <a:lnTo>
                                <a:pt x="199" y="42"/>
                              </a:lnTo>
                              <a:lnTo>
                                <a:pt x="204" y="26"/>
                              </a:lnTo>
                              <a:lnTo>
                                <a:pt x="208" y="13"/>
                              </a:lnTo>
                              <a:lnTo>
                                <a:pt x="221" y="2"/>
                              </a:lnTo>
                              <a:lnTo>
                                <a:pt x="239" y="0"/>
                              </a:lnTo>
                              <a:lnTo>
                                <a:pt x="272" y="5"/>
                              </a:lnTo>
                              <a:lnTo>
                                <a:pt x="250" y="27"/>
                              </a:lnTo>
                              <a:lnTo>
                                <a:pt x="272" y="64"/>
                              </a:lnTo>
                              <a:lnTo>
                                <a:pt x="306" y="106"/>
                              </a:lnTo>
                              <a:lnTo>
                                <a:pt x="127" y="3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6" name=""/>
                      <p:cNvGrpSpPr/>
                      <p:nvPr/>
                    </p:nvGrpSpPr>
                    <p:grpSpPr>
                      <a:xfrm>
                        <a:off x="6802920" y="4126680"/>
                        <a:ext cx="783720" cy="705600"/>
                        <a:chOff x="6802920" y="4126680"/>
                        <a:chExt cx="783720" cy="705600"/>
                      </a:xfrm>
                    </p:grpSpPr>
                    <p:grpSp>
                      <p:nvGrpSpPr>
                        <p:cNvPr id="187" name=""/>
                        <p:cNvGrpSpPr/>
                        <p:nvPr/>
                      </p:nvGrpSpPr>
                      <p:grpSpPr>
                        <a:xfrm>
                          <a:off x="6802920" y="4126680"/>
                          <a:ext cx="478800" cy="705600"/>
                          <a:chOff x="6802920" y="4126680"/>
                          <a:chExt cx="478800" cy="705600"/>
                        </a:xfrm>
                      </p:grpSpPr>
                      <p:sp>
                        <p:nvSpPr>
                          <p:cNvPr id="188" name=""/>
                          <p:cNvSpPr/>
                          <p:nvPr/>
                        </p:nvSpPr>
                        <p:spPr>
                          <a:xfrm>
                            <a:off x="6802920" y="4126680"/>
                            <a:ext cx="478800" cy="705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5" h="818">
                                <a:moveTo>
                                  <a:pt x="25" y="273"/>
                                </a:moveTo>
                                <a:lnTo>
                                  <a:pt x="57" y="211"/>
                                </a:lnTo>
                                <a:lnTo>
                                  <a:pt x="101" y="147"/>
                                </a:lnTo>
                                <a:lnTo>
                                  <a:pt x="144" y="86"/>
                                </a:lnTo>
                                <a:lnTo>
                                  <a:pt x="238" y="34"/>
                                </a:lnTo>
                                <a:lnTo>
                                  <a:pt x="226" y="91"/>
                                </a:lnTo>
                                <a:lnTo>
                                  <a:pt x="320" y="0"/>
                                </a:lnTo>
                                <a:lnTo>
                                  <a:pt x="307" y="30"/>
                                </a:lnTo>
                                <a:lnTo>
                                  <a:pt x="299" y="68"/>
                                </a:lnTo>
                                <a:lnTo>
                                  <a:pt x="374" y="0"/>
                                </a:lnTo>
                                <a:lnTo>
                                  <a:pt x="310" y="94"/>
                                </a:lnTo>
                                <a:lnTo>
                                  <a:pt x="302" y="130"/>
                                </a:lnTo>
                                <a:lnTo>
                                  <a:pt x="337" y="86"/>
                                </a:lnTo>
                                <a:lnTo>
                                  <a:pt x="406" y="56"/>
                                </a:lnTo>
                                <a:lnTo>
                                  <a:pt x="472" y="53"/>
                                </a:lnTo>
                                <a:lnTo>
                                  <a:pt x="404" y="94"/>
                                </a:lnTo>
                                <a:lnTo>
                                  <a:pt x="379" y="145"/>
                                </a:lnTo>
                                <a:lnTo>
                                  <a:pt x="383" y="174"/>
                                </a:lnTo>
                                <a:lnTo>
                                  <a:pt x="404" y="175"/>
                                </a:lnTo>
                                <a:lnTo>
                                  <a:pt x="438" y="192"/>
                                </a:lnTo>
                                <a:lnTo>
                                  <a:pt x="487" y="229"/>
                                </a:lnTo>
                                <a:lnTo>
                                  <a:pt x="477" y="246"/>
                                </a:lnTo>
                                <a:lnTo>
                                  <a:pt x="474" y="260"/>
                                </a:lnTo>
                                <a:lnTo>
                                  <a:pt x="481" y="282"/>
                                </a:lnTo>
                                <a:lnTo>
                                  <a:pt x="494" y="299"/>
                                </a:lnTo>
                                <a:lnTo>
                                  <a:pt x="515" y="316"/>
                                </a:lnTo>
                                <a:lnTo>
                                  <a:pt x="543" y="329"/>
                                </a:lnTo>
                                <a:lnTo>
                                  <a:pt x="570" y="337"/>
                                </a:lnTo>
                                <a:lnTo>
                                  <a:pt x="595" y="342"/>
                                </a:lnTo>
                                <a:lnTo>
                                  <a:pt x="562" y="380"/>
                                </a:lnTo>
                                <a:lnTo>
                                  <a:pt x="539" y="418"/>
                                </a:lnTo>
                                <a:lnTo>
                                  <a:pt x="515" y="461"/>
                                </a:lnTo>
                                <a:lnTo>
                                  <a:pt x="494" y="505"/>
                                </a:lnTo>
                                <a:lnTo>
                                  <a:pt x="474" y="552"/>
                                </a:lnTo>
                                <a:lnTo>
                                  <a:pt x="435" y="575"/>
                                </a:lnTo>
                                <a:lnTo>
                                  <a:pt x="377" y="579"/>
                                </a:lnTo>
                                <a:lnTo>
                                  <a:pt x="337" y="566"/>
                                </a:lnTo>
                                <a:lnTo>
                                  <a:pt x="312" y="558"/>
                                </a:lnTo>
                                <a:lnTo>
                                  <a:pt x="288" y="572"/>
                                </a:lnTo>
                                <a:lnTo>
                                  <a:pt x="295" y="620"/>
                                </a:lnTo>
                                <a:lnTo>
                                  <a:pt x="319" y="674"/>
                                </a:lnTo>
                                <a:lnTo>
                                  <a:pt x="333" y="710"/>
                                </a:lnTo>
                                <a:lnTo>
                                  <a:pt x="333" y="740"/>
                                </a:lnTo>
                                <a:lnTo>
                                  <a:pt x="307" y="818"/>
                                </a:lnTo>
                                <a:lnTo>
                                  <a:pt x="17" y="787"/>
                                </a:lnTo>
                                <a:lnTo>
                                  <a:pt x="5" y="545"/>
                                </a:lnTo>
                                <a:lnTo>
                                  <a:pt x="0" y="404"/>
                                </a:lnTo>
                                <a:lnTo>
                                  <a:pt x="9" y="324"/>
                                </a:lnTo>
                                <a:lnTo>
                                  <a:pt x="25" y="27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9" name=""/>
                          <p:cNvSpPr/>
                          <p:nvPr/>
                        </p:nvSpPr>
                        <p:spPr>
                          <a:xfrm>
                            <a:off x="7110720" y="4317840"/>
                            <a:ext cx="75960" cy="20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4" h="24">
                                <a:moveTo>
                                  <a:pt x="94" y="24"/>
                                </a:moveTo>
                                <a:lnTo>
                                  <a:pt x="77" y="16"/>
                                </a:lnTo>
                                <a:lnTo>
                                  <a:pt x="55" y="7"/>
                                </a:lnTo>
                                <a:lnTo>
                                  <a:pt x="38" y="0"/>
                                </a:lnTo>
                                <a:lnTo>
                                  <a:pt x="18" y="4"/>
                                </a:lnTo>
                                <a:lnTo>
                                  <a:pt x="0" y="17"/>
                                </a:ln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280" bIns="-26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0" name=""/>
                        <p:cNvGrpSpPr/>
                        <p:nvPr/>
                      </p:nvGrpSpPr>
                      <p:grpSpPr>
                        <a:xfrm>
                          <a:off x="7012440" y="4418280"/>
                          <a:ext cx="574200" cy="343080"/>
                          <a:chOff x="7012440" y="4418280"/>
                          <a:chExt cx="574200" cy="343080"/>
                        </a:xfrm>
                      </p:grpSpPr>
                      <p:sp>
                        <p:nvSpPr>
                          <p:cNvPr id="191" name=""/>
                          <p:cNvSpPr/>
                          <p:nvPr/>
                        </p:nvSpPr>
                        <p:spPr>
                          <a:xfrm>
                            <a:off x="7012440" y="4418280"/>
                            <a:ext cx="574200" cy="343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2" h="400">
                                <a:moveTo>
                                  <a:pt x="0" y="233"/>
                                </a:moveTo>
                                <a:lnTo>
                                  <a:pt x="69" y="188"/>
                                </a:lnTo>
                                <a:lnTo>
                                  <a:pt x="163" y="218"/>
                                </a:lnTo>
                                <a:lnTo>
                                  <a:pt x="218" y="182"/>
                                </a:lnTo>
                                <a:lnTo>
                                  <a:pt x="260" y="110"/>
                                </a:lnTo>
                                <a:lnTo>
                                  <a:pt x="305" y="43"/>
                                </a:lnTo>
                                <a:lnTo>
                                  <a:pt x="326" y="0"/>
                                </a:lnTo>
                                <a:lnTo>
                                  <a:pt x="373" y="5"/>
                                </a:lnTo>
                                <a:lnTo>
                                  <a:pt x="405" y="16"/>
                                </a:lnTo>
                                <a:lnTo>
                                  <a:pt x="430" y="47"/>
                                </a:lnTo>
                                <a:lnTo>
                                  <a:pt x="463" y="90"/>
                                </a:lnTo>
                                <a:lnTo>
                                  <a:pt x="497" y="128"/>
                                </a:lnTo>
                                <a:lnTo>
                                  <a:pt x="545" y="167"/>
                                </a:lnTo>
                                <a:lnTo>
                                  <a:pt x="595" y="201"/>
                                </a:lnTo>
                                <a:lnTo>
                                  <a:pt x="633" y="226"/>
                                </a:lnTo>
                                <a:lnTo>
                                  <a:pt x="661" y="239"/>
                                </a:lnTo>
                                <a:lnTo>
                                  <a:pt x="685" y="245"/>
                                </a:lnTo>
                                <a:lnTo>
                                  <a:pt x="712" y="239"/>
                                </a:lnTo>
                                <a:lnTo>
                                  <a:pt x="710" y="272"/>
                                </a:lnTo>
                                <a:lnTo>
                                  <a:pt x="702" y="306"/>
                                </a:lnTo>
                                <a:lnTo>
                                  <a:pt x="676" y="346"/>
                                </a:lnTo>
                                <a:lnTo>
                                  <a:pt x="651" y="377"/>
                                </a:lnTo>
                                <a:lnTo>
                                  <a:pt x="625" y="391"/>
                                </a:lnTo>
                                <a:lnTo>
                                  <a:pt x="595" y="379"/>
                                </a:lnTo>
                                <a:lnTo>
                                  <a:pt x="562" y="360"/>
                                </a:lnTo>
                                <a:lnTo>
                                  <a:pt x="527" y="344"/>
                                </a:lnTo>
                                <a:lnTo>
                                  <a:pt x="486" y="332"/>
                                </a:lnTo>
                                <a:lnTo>
                                  <a:pt x="454" y="353"/>
                                </a:lnTo>
                                <a:lnTo>
                                  <a:pt x="412" y="379"/>
                                </a:lnTo>
                                <a:lnTo>
                                  <a:pt x="382" y="356"/>
                                </a:lnTo>
                                <a:lnTo>
                                  <a:pt x="332" y="324"/>
                                </a:lnTo>
                                <a:lnTo>
                                  <a:pt x="301" y="342"/>
                                </a:lnTo>
                                <a:lnTo>
                                  <a:pt x="257" y="361"/>
                                </a:lnTo>
                                <a:lnTo>
                                  <a:pt x="200" y="374"/>
                                </a:lnTo>
                                <a:lnTo>
                                  <a:pt x="125" y="391"/>
                                </a:lnTo>
                                <a:lnTo>
                                  <a:pt x="68" y="400"/>
                                </a:lnTo>
                                <a:lnTo>
                                  <a:pt x="39" y="360"/>
                                </a:lnTo>
                                <a:lnTo>
                                  <a:pt x="29" y="336"/>
                                </a:lnTo>
                                <a:lnTo>
                                  <a:pt x="9" y="280"/>
                                </a:lnTo>
                                <a:lnTo>
                                  <a:pt x="0" y="23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5f00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92" name=""/>
                          <p:cNvGrpSpPr/>
                          <p:nvPr/>
                        </p:nvGrpSpPr>
                        <p:grpSpPr>
                          <a:xfrm>
                            <a:off x="7085160" y="4540680"/>
                            <a:ext cx="464400" cy="173880"/>
                            <a:chOff x="7085160" y="4540680"/>
                            <a:chExt cx="464400" cy="173880"/>
                          </a:xfrm>
                        </p:grpSpPr>
                        <p:sp>
                          <p:nvSpPr>
                            <p:cNvPr id="193" name=""/>
                            <p:cNvSpPr/>
                            <p:nvPr/>
                          </p:nvSpPr>
                          <p:spPr>
                            <a:xfrm>
                              <a:off x="7322040" y="4540680"/>
                              <a:ext cx="46800" cy="37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" h="43">
                                  <a:moveTo>
                                    <a:pt x="12" y="0"/>
                                  </a:moveTo>
                                  <a:lnTo>
                                    <a:pt x="59" y="27"/>
                                  </a:lnTo>
                                  <a:lnTo>
                                    <a:pt x="0" y="43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9000" bIns="-9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4" name=""/>
                            <p:cNvSpPr/>
                            <p:nvPr/>
                          </p:nvSpPr>
                          <p:spPr>
                            <a:xfrm flipH="1">
                              <a:off x="7506360" y="4630320"/>
                              <a:ext cx="43200" cy="291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5" name=""/>
                            <p:cNvSpPr/>
                            <p:nvPr/>
                          </p:nvSpPr>
                          <p:spPr>
                            <a:xfrm>
                              <a:off x="7085160" y="4659480"/>
                              <a:ext cx="57960" cy="55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1" h="64">
                                  <a:moveTo>
                                    <a:pt x="71" y="0"/>
                                  </a:moveTo>
                                  <a:lnTo>
                                    <a:pt x="38" y="15"/>
                                  </a:lnTo>
                                  <a:lnTo>
                                    <a:pt x="21" y="30"/>
                                  </a:lnTo>
                                  <a:lnTo>
                                    <a:pt x="11" y="44"/>
                                  </a:lnTo>
                                  <a:lnTo>
                                    <a:pt x="0" y="64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280" bIns="8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6" name=""/>
                            <p:cNvSpPr/>
                            <p:nvPr/>
                          </p:nvSpPr>
                          <p:spPr>
                            <a:xfrm>
                              <a:off x="7102440" y="4659480"/>
                              <a:ext cx="301680" cy="41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4" h="49">
                                  <a:moveTo>
                                    <a:pt x="0" y="36"/>
                                  </a:moveTo>
                                  <a:lnTo>
                                    <a:pt x="47" y="23"/>
                                  </a:lnTo>
                                  <a:lnTo>
                                    <a:pt x="102" y="13"/>
                                  </a:lnTo>
                                  <a:lnTo>
                                    <a:pt x="149" y="3"/>
                                  </a:lnTo>
                                  <a:lnTo>
                                    <a:pt x="190" y="0"/>
                                  </a:lnTo>
                                  <a:lnTo>
                                    <a:pt x="233" y="5"/>
                                  </a:lnTo>
                                  <a:lnTo>
                                    <a:pt x="276" y="13"/>
                                  </a:lnTo>
                                  <a:lnTo>
                                    <a:pt x="321" y="26"/>
                                  </a:lnTo>
                                  <a:lnTo>
                                    <a:pt x="374" y="49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400" bIns="-54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97" name=""/>
                      <p:cNvGrpSpPr/>
                      <p:nvPr/>
                    </p:nvGrpSpPr>
                    <p:grpSpPr>
                      <a:xfrm>
                        <a:off x="6547680" y="5198040"/>
                        <a:ext cx="635760" cy="660960"/>
                        <a:chOff x="6547680" y="5198040"/>
                        <a:chExt cx="635760" cy="660960"/>
                      </a:xfrm>
                    </p:grpSpPr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6905880" y="5603760"/>
                          <a:ext cx="187200" cy="23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3" h="274">
                              <a:moveTo>
                                <a:pt x="157" y="0"/>
                              </a:moveTo>
                              <a:lnTo>
                                <a:pt x="233" y="0"/>
                              </a:lnTo>
                              <a:lnTo>
                                <a:pt x="226" y="40"/>
                              </a:lnTo>
                              <a:lnTo>
                                <a:pt x="218" y="82"/>
                              </a:lnTo>
                              <a:lnTo>
                                <a:pt x="201" y="121"/>
                              </a:lnTo>
                              <a:lnTo>
                                <a:pt x="178" y="154"/>
                              </a:lnTo>
                              <a:lnTo>
                                <a:pt x="145" y="188"/>
                              </a:lnTo>
                              <a:lnTo>
                                <a:pt x="114" y="215"/>
                              </a:lnTo>
                              <a:lnTo>
                                <a:pt x="80" y="252"/>
                              </a:lnTo>
                              <a:lnTo>
                                <a:pt x="63" y="269"/>
                              </a:lnTo>
                              <a:lnTo>
                                <a:pt x="50" y="273"/>
                              </a:lnTo>
                              <a:lnTo>
                                <a:pt x="30" y="274"/>
                              </a:lnTo>
                              <a:lnTo>
                                <a:pt x="0" y="252"/>
                              </a:lnTo>
                              <a:lnTo>
                                <a:pt x="15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6547680" y="5198040"/>
                          <a:ext cx="635760" cy="66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7" h="765">
                              <a:moveTo>
                                <a:pt x="301" y="565"/>
                              </a:moveTo>
                              <a:lnTo>
                                <a:pt x="297" y="609"/>
                              </a:lnTo>
                              <a:lnTo>
                                <a:pt x="300" y="656"/>
                              </a:lnTo>
                              <a:lnTo>
                                <a:pt x="310" y="703"/>
                              </a:lnTo>
                              <a:lnTo>
                                <a:pt x="318" y="728"/>
                              </a:lnTo>
                              <a:lnTo>
                                <a:pt x="334" y="747"/>
                              </a:lnTo>
                              <a:lnTo>
                                <a:pt x="354" y="745"/>
                              </a:lnTo>
                              <a:lnTo>
                                <a:pt x="378" y="740"/>
                              </a:lnTo>
                              <a:lnTo>
                                <a:pt x="391" y="754"/>
                              </a:lnTo>
                              <a:lnTo>
                                <a:pt x="406" y="763"/>
                              </a:lnTo>
                              <a:lnTo>
                                <a:pt x="425" y="765"/>
                              </a:lnTo>
                              <a:lnTo>
                                <a:pt x="443" y="761"/>
                              </a:lnTo>
                              <a:lnTo>
                                <a:pt x="463" y="745"/>
                              </a:lnTo>
                              <a:lnTo>
                                <a:pt x="482" y="724"/>
                              </a:lnTo>
                              <a:lnTo>
                                <a:pt x="504" y="699"/>
                              </a:lnTo>
                              <a:lnTo>
                                <a:pt x="529" y="672"/>
                              </a:lnTo>
                              <a:lnTo>
                                <a:pt x="551" y="644"/>
                              </a:lnTo>
                              <a:lnTo>
                                <a:pt x="578" y="613"/>
                              </a:lnTo>
                              <a:lnTo>
                                <a:pt x="614" y="561"/>
                              </a:lnTo>
                              <a:lnTo>
                                <a:pt x="647" y="519"/>
                              </a:lnTo>
                              <a:lnTo>
                                <a:pt x="686" y="484"/>
                              </a:lnTo>
                              <a:lnTo>
                                <a:pt x="715" y="462"/>
                              </a:lnTo>
                              <a:lnTo>
                                <a:pt x="742" y="431"/>
                              </a:lnTo>
                              <a:lnTo>
                                <a:pt x="767" y="391"/>
                              </a:lnTo>
                              <a:lnTo>
                                <a:pt x="780" y="352"/>
                              </a:lnTo>
                              <a:lnTo>
                                <a:pt x="787" y="303"/>
                              </a:lnTo>
                              <a:lnTo>
                                <a:pt x="772" y="239"/>
                              </a:lnTo>
                              <a:lnTo>
                                <a:pt x="180" y="71"/>
                              </a:lnTo>
                              <a:lnTo>
                                <a:pt x="149" y="67"/>
                              </a:lnTo>
                              <a:lnTo>
                                <a:pt x="112" y="34"/>
                              </a:lnTo>
                              <a:lnTo>
                                <a:pt x="65" y="0"/>
                              </a:lnTo>
                              <a:lnTo>
                                <a:pt x="0" y="47"/>
                              </a:lnTo>
                              <a:lnTo>
                                <a:pt x="18" y="76"/>
                              </a:lnTo>
                              <a:lnTo>
                                <a:pt x="51" y="107"/>
                              </a:lnTo>
                              <a:lnTo>
                                <a:pt x="23" y="124"/>
                              </a:lnTo>
                              <a:lnTo>
                                <a:pt x="1" y="148"/>
                              </a:lnTo>
                              <a:lnTo>
                                <a:pt x="31" y="165"/>
                              </a:lnTo>
                              <a:lnTo>
                                <a:pt x="51" y="185"/>
                              </a:lnTo>
                              <a:lnTo>
                                <a:pt x="64" y="216"/>
                              </a:lnTo>
                              <a:lnTo>
                                <a:pt x="68" y="242"/>
                              </a:lnTo>
                              <a:lnTo>
                                <a:pt x="18" y="234"/>
                              </a:lnTo>
                              <a:lnTo>
                                <a:pt x="14" y="261"/>
                              </a:lnTo>
                              <a:lnTo>
                                <a:pt x="23" y="297"/>
                              </a:lnTo>
                              <a:lnTo>
                                <a:pt x="48" y="334"/>
                              </a:lnTo>
                              <a:lnTo>
                                <a:pt x="75" y="360"/>
                              </a:lnTo>
                              <a:lnTo>
                                <a:pt x="115" y="380"/>
                              </a:lnTo>
                              <a:lnTo>
                                <a:pt x="153" y="390"/>
                              </a:lnTo>
                              <a:lnTo>
                                <a:pt x="159" y="428"/>
                              </a:lnTo>
                              <a:lnTo>
                                <a:pt x="183" y="462"/>
                              </a:lnTo>
                              <a:lnTo>
                                <a:pt x="214" y="501"/>
                              </a:lnTo>
                              <a:lnTo>
                                <a:pt x="254" y="536"/>
                              </a:lnTo>
                              <a:lnTo>
                                <a:pt x="301" y="56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0" name=""/>
                    <p:cNvGrpSpPr/>
                    <p:nvPr/>
                  </p:nvGrpSpPr>
                  <p:grpSpPr>
                    <a:xfrm>
                      <a:off x="6872760" y="4281840"/>
                      <a:ext cx="457920" cy="322920"/>
                      <a:chOff x="6872760" y="4281840"/>
                      <a:chExt cx="457920" cy="322920"/>
                    </a:xfrm>
                  </p:grpSpPr>
                  <p:sp>
                    <p:nvSpPr>
                      <p:cNvPr id="201" name=""/>
                      <p:cNvSpPr/>
                      <p:nvPr/>
                    </p:nvSpPr>
                    <p:spPr>
                      <a:xfrm>
                        <a:off x="6872760" y="4392720"/>
                        <a:ext cx="340200" cy="89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2" h="106">
                            <a:moveTo>
                              <a:pt x="0" y="76"/>
                            </a:moveTo>
                            <a:lnTo>
                              <a:pt x="30" y="37"/>
                            </a:lnTo>
                            <a:lnTo>
                              <a:pt x="68" y="6"/>
                            </a:lnTo>
                            <a:lnTo>
                              <a:pt x="100" y="0"/>
                            </a:lnTo>
                            <a:lnTo>
                              <a:pt x="422" y="42"/>
                            </a:lnTo>
                            <a:lnTo>
                              <a:pt x="414" y="84"/>
                            </a:lnTo>
                            <a:lnTo>
                              <a:pt x="350" y="81"/>
                            </a:lnTo>
                            <a:lnTo>
                              <a:pt x="203" y="76"/>
                            </a:lnTo>
                            <a:lnTo>
                              <a:pt x="108" y="71"/>
                            </a:lnTo>
                            <a:lnTo>
                              <a:pt x="90" y="77"/>
                            </a:lnTo>
                            <a:lnTo>
                              <a:pt x="64" y="106"/>
                            </a:lnTo>
                            <a:lnTo>
                              <a:pt x="0" y="76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840" bIns="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2" name=""/>
                      <p:cNvSpPr/>
                      <p:nvPr/>
                    </p:nvSpPr>
                    <p:spPr>
                      <a:xfrm>
                        <a:off x="7280640" y="4318200"/>
                        <a:ext cx="50040" cy="13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156">
                            <a:moveTo>
                              <a:pt x="20" y="0"/>
                            </a:moveTo>
                            <a:lnTo>
                              <a:pt x="41" y="21"/>
                            </a:lnTo>
                            <a:lnTo>
                              <a:pt x="51" y="41"/>
                            </a:lnTo>
                            <a:lnTo>
                              <a:pt x="58" y="67"/>
                            </a:lnTo>
                            <a:lnTo>
                              <a:pt x="63" y="91"/>
                            </a:lnTo>
                            <a:lnTo>
                              <a:pt x="56" y="114"/>
                            </a:lnTo>
                            <a:lnTo>
                              <a:pt x="43" y="134"/>
                            </a:lnTo>
                            <a:lnTo>
                              <a:pt x="23" y="148"/>
                            </a:lnTo>
                            <a:lnTo>
                              <a:pt x="0" y="156"/>
                            </a:lnTo>
                            <a:lnTo>
                              <a:pt x="20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" name=""/>
                      <p:cNvSpPr/>
                      <p:nvPr/>
                    </p:nvSpPr>
                    <p:spPr>
                      <a:xfrm>
                        <a:off x="7248600" y="4281840"/>
                        <a:ext cx="66240" cy="17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03">
                            <a:moveTo>
                              <a:pt x="0" y="168"/>
                            </a:moveTo>
                            <a:lnTo>
                              <a:pt x="39" y="0"/>
                            </a:lnTo>
                            <a:lnTo>
                              <a:pt x="83" y="21"/>
                            </a:lnTo>
                            <a:lnTo>
                              <a:pt x="44" y="203"/>
                            </a:lnTo>
                            <a:lnTo>
                              <a:pt x="5" y="199"/>
                            </a:lnTo>
                            <a:lnTo>
                              <a:pt x="0" y="168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7216200" y="4314600"/>
                        <a:ext cx="66240" cy="27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320">
                            <a:moveTo>
                              <a:pt x="35" y="0"/>
                            </a:moveTo>
                            <a:lnTo>
                              <a:pt x="56" y="17"/>
                            </a:lnTo>
                            <a:lnTo>
                              <a:pt x="69" y="41"/>
                            </a:lnTo>
                            <a:lnTo>
                              <a:pt x="76" y="69"/>
                            </a:lnTo>
                            <a:lnTo>
                              <a:pt x="81" y="101"/>
                            </a:lnTo>
                            <a:lnTo>
                              <a:pt x="79" y="131"/>
                            </a:lnTo>
                            <a:lnTo>
                              <a:pt x="72" y="173"/>
                            </a:lnTo>
                            <a:lnTo>
                              <a:pt x="62" y="212"/>
                            </a:lnTo>
                            <a:lnTo>
                              <a:pt x="48" y="252"/>
                            </a:lnTo>
                            <a:lnTo>
                              <a:pt x="27" y="284"/>
                            </a:lnTo>
                            <a:lnTo>
                              <a:pt x="0" y="320"/>
                            </a:lnTo>
                            <a:lnTo>
                              <a:pt x="35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7179480" y="4288680"/>
                        <a:ext cx="83520" cy="31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365">
                            <a:moveTo>
                              <a:pt x="51" y="0"/>
                            </a:moveTo>
                            <a:lnTo>
                              <a:pt x="105" y="6"/>
                            </a:lnTo>
                            <a:lnTo>
                              <a:pt x="51" y="365"/>
                            </a:lnTo>
                            <a:lnTo>
                              <a:pt x="0" y="361"/>
                            </a:lnTo>
                            <a:lnTo>
                              <a:pt x="51" y="0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565680" y="4342680"/>
                  <a:ext cx="650880" cy="1240920"/>
                  <a:chOff x="6565680" y="4342680"/>
                  <a:chExt cx="650880" cy="1240920"/>
                </a:xfrm>
              </p:grpSpPr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6565680" y="4342680"/>
                    <a:ext cx="650880" cy="1240920"/>
                    <a:chOff x="6565680" y="4342680"/>
                    <a:chExt cx="650880" cy="1240920"/>
                  </a:xfrm>
                </p:grpSpPr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6890040" y="4779360"/>
                      <a:ext cx="285480" cy="225720"/>
                      <a:chOff x="6890040" y="4779360"/>
                      <a:chExt cx="285480" cy="22572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6890040" y="4779360"/>
                        <a:ext cx="198720" cy="14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166">
                            <a:moveTo>
                              <a:pt x="0" y="78"/>
                            </a:moveTo>
                            <a:lnTo>
                              <a:pt x="55" y="0"/>
                            </a:lnTo>
                            <a:lnTo>
                              <a:pt x="240" y="17"/>
                            </a:lnTo>
                            <a:lnTo>
                              <a:pt x="246" y="38"/>
                            </a:lnTo>
                            <a:lnTo>
                              <a:pt x="242" y="64"/>
                            </a:lnTo>
                            <a:lnTo>
                              <a:pt x="199" y="91"/>
                            </a:lnTo>
                            <a:lnTo>
                              <a:pt x="116" y="166"/>
                            </a:lnTo>
                            <a:lnTo>
                              <a:pt x="0" y="78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6982200" y="4827600"/>
                        <a:ext cx="19332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8" h="205">
                            <a:moveTo>
                              <a:pt x="0" y="120"/>
                            </a:moveTo>
                            <a:lnTo>
                              <a:pt x="82" y="17"/>
                            </a:lnTo>
                            <a:lnTo>
                              <a:pt x="120" y="39"/>
                            </a:lnTo>
                            <a:lnTo>
                              <a:pt x="137" y="17"/>
                            </a:lnTo>
                            <a:lnTo>
                              <a:pt x="180" y="0"/>
                            </a:lnTo>
                            <a:lnTo>
                              <a:pt x="196" y="30"/>
                            </a:lnTo>
                            <a:lnTo>
                              <a:pt x="213" y="37"/>
                            </a:lnTo>
                            <a:lnTo>
                              <a:pt x="213" y="61"/>
                            </a:lnTo>
                            <a:lnTo>
                              <a:pt x="238" y="70"/>
                            </a:lnTo>
                            <a:lnTo>
                              <a:pt x="233" y="84"/>
                            </a:lnTo>
                            <a:lnTo>
                              <a:pt x="164" y="111"/>
                            </a:lnTo>
                            <a:lnTo>
                              <a:pt x="177" y="148"/>
                            </a:lnTo>
                            <a:lnTo>
                              <a:pt x="170" y="171"/>
                            </a:lnTo>
                            <a:lnTo>
                              <a:pt x="153" y="175"/>
                            </a:lnTo>
                            <a:lnTo>
                              <a:pt x="132" y="164"/>
                            </a:lnTo>
                            <a:lnTo>
                              <a:pt x="128" y="205"/>
                            </a:lnTo>
                            <a:lnTo>
                              <a:pt x="0" y="12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1" name=""/>
                    <p:cNvGrpSpPr/>
                    <p:nvPr/>
                  </p:nvGrpSpPr>
                  <p:grpSpPr>
                    <a:xfrm>
                      <a:off x="6565680" y="4342680"/>
                      <a:ext cx="650880" cy="1240920"/>
                      <a:chOff x="6565680" y="4342680"/>
                      <a:chExt cx="650880" cy="1240920"/>
                    </a:xfrm>
                  </p:grpSpPr>
                  <p:grpSp>
                    <p:nvGrpSpPr>
                      <p:cNvPr id="212" name=""/>
                      <p:cNvGrpSpPr/>
                      <p:nvPr/>
                    </p:nvGrpSpPr>
                    <p:grpSpPr>
                      <a:xfrm>
                        <a:off x="6565680" y="4342680"/>
                        <a:ext cx="650880" cy="1240920"/>
                        <a:chOff x="6565680" y="4342680"/>
                        <a:chExt cx="650880" cy="1240920"/>
                      </a:xfrm>
                    </p:grpSpPr>
                    <p:grpSp>
                      <p:nvGrpSpPr>
                        <p:cNvPr id="213" name=""/>
                        <p:cNvGrpSpPr/>
                        <p:nvPr/>
                      </p:nvGrpSpPr>
                      <p:grpSpPr>
                        <a:xfrm>
                          <a:off x="6565680" y="4342680"/>
                          <a:ext cx="650880" cy="1240920"/>
                          <a:chOff x="6565680" y="4342680"/>
                          <a:chExt cx="650880" cy="1240920"/>
                        </a:xfrm>
                      </p:grpSpPr>
                      <p:grpSp>
                        <p:nvGrpSpPr>
                          <p:cNvPr id="214" name=""/>
                          <p:cNvGrpSpPr/>
                          <p:nvPr/>
                        </p:nvGrpSpPr>
                        <p:grpSpPr>
                          <a:xfrm>
                            <a:off x="6565680" y="4342680"/>
                            <a:ext cx="221040" cy="374040"/>
                            <a:chOff x="6565680" y="4342680"/>
                            <a:chExt cx="221040" cy="374040"/>
                          </a:xfrm>
                        </p:grpSpPr>
                        <p:sp>
                          <p:nvSpPr>
                            <p:cNvPr id="215" name=""/>
                            <p:cNvSpPr/>
                            <p:nvPr/>
                          </p:nvSpPr>
                          <p:spPr>
                            <a:xfrm>
                              <a:off x="6663600" y="4587480"/>
                              <a:ext cx="120600" cy="129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9" h="150">
                                  <a:moveTo>
                                    <a:pt x="0" y="55"/>
                                  </a:moveTo>
                                  <a:lnTo>
                                    <a:pt x="25" y="120"/>
                                  </a:lnTo>
                                  <a:lnTo>
                                    <a:pt x="48" y="150"/>
                                  </a:lnTo>
                                  <a:lnTo>
                                    <a:pt x="149" y="103"/>
                                  </a:lnTo>
                                  <a:lnTo>
                                    <a:pt x="91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16" name=""/>
                            <p:cNvGrpSpPr/>
                            <p:nvPr/>
                          </p:nvGrpSpPr>
                          <p:grpSpPr>
                            <a:xfrm>
                              <a:off x="6565680" y="4342680"/>
                              <a:ext cx="221040" cy="371520"/>
                              <a:chOff x="6565680" y="4342680"/>
                              <a:chExt cx="221040" cy="371520"/>
                            </a:xfrm>
                          </p:grpSpPr>
                          <p:grpSp>
                            <p:nvGrpSpPr>
                              <p:cNvPr id="217" name=""/>
                              <p:cNvGrpSpPr/>
                              <p:nvPr/>
                            </p:nvGrpSpPr>
                            <p:grpSpPr>
                              <a:xfrm>
                                <a:off x="6565680" y="4342680"/>
                                <a:ext cx="221040" cy="371520"/>
                                <a:chOff x="6565680" y="4342680"/>
                                <a:chExt cx="221040" cy="371520"/>
                              </a:xfrm>
                            </p:grpSpPr>
                            <p:sp>
                              <p:nvSpPr>
                                <p:cNvPr id="218" name=""/>
                                <p:cNvSpPr/>
                                <p:nvPr/>
                              </p:nvSpPr>
                              <p:spPr>
                                <a:xfrm>
                                  <a:off x="6599160" y="4554360"/>
                                  <a:ext cx="99720" cy="1598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25" h="186">
                                      <a:moveTo>
                                        <a:pt x="0" y="6"/>
                                      </a:moveTo>
                                      <a:lnTo>
                                        <a:pt x="3" y="84"/>
                                      </a:lnTo>
                                      <a:lnTo>
                                        <a:pt x="15" y="112"/>
                                      </a:lnTo>
                                      <a:lnTo>
                                        <a:pt x="31" y="147"/>
                                      </a:lnTo>
                                      <a:lnTo>
                                        <a:pt x="42" y="166"/>
                                      </a:lnTo>
                                      <a:lnTo>
                                        <a:pt x="58" y="186"/>
                                      </a:lnTo>
                                      <a:lnTo>
                                        <a:pt x="82" y="176"/>
                                      </a:lnTo>
                                      <a:lnTo>
                                        <a:pt x="125" y="168"/>
                                      </a:lnTo>
                                      <a:lnTo>
                                        <a:pt x="95" y="0"/>
                                      </a:lnTo>
                                      <a:lnTo>
                                        <a:pt x="0" y="6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9" name=""/>
                                <p:cNvSpPr/>
                                <p:nvPr/>
                              </p:nvSpPr>
                              <p:spPr>
                                <a:xfrm>
                                  <a:off x="6565680" y="4342680"/>
                                  <a:ext cx="221040" cy="2581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77" h="302">
                                      <a:moveTo>
                                        <a:pt x="0" y="282"/>
                                      </a:moveTo>
                                      <a:lnTo>
                                        <a:pt x="13" y="236"/>
                                      </a:lnTo>
                                      <a:lnTo>
                                        <a:pt x="26" y="206"/>
                                      </a:lnTo>
                                      <a:lnTo>
                                        <a:pt x="54" y="164"/>
                                      </a:lnTo>
                                      <a:lnTo>
                                        <a:pt x="105" y="108"/>
                                      </a:lnTo>
                                      <a:lnTo>
                                        <a:pt x="157" y="54"/>
                                      </a:lnTo>
                                      <a:lnTo>
                                        <a:pt x="209" y="0"/>
                                      </a:lnTo>
                                      <a:lnTo>
                                        <a:pt x="225" y="2"/>
                                      </a:lnTo>
                                      <a:lnTo>
                                        <a:pt x="277" y="53"/>
                                      </a:lnTo>
                                      <a:lnTo>
                                        <a:pt x="117" y="302"/>
                                      </a:lnTo>
                                      <a:lnTo>
                                        <a:pt x="0" y="282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20" name=""/>
                              <p:cNvSpPr/>
                              <p:nvPr/>
                            </p:nvSpPr>
                            <p:spPr>
                              <a:xfrm>
                                <a:off x="6713640" y="4368240"/>
                                <a:ext cx="36720" cy="478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9f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>
                            <a:off x="6634440" y="4359600"/>
                            <a:ext cx="582120" cy="1224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2" h="1418">
                                <a:moveTo>
                                  <a:pt x="0" y="323"/>
                                </a:moveTo>
                                <a:lnTo>
                                  <a:pt x="16" y="261"/>
                                </a:lnTo>
                                <a:lnTo>
                                  <a:pt x="43" y="204"/>
                                </a:lnTo>
                                <a:lnTo>
                                  <a:pt x="77" y="153"/>
                                </a:lnTo>
                                <a:lnTo>
                                  <a:pt x="111" y="101"/>
                                </a:lnTo>
                                <a:lnTo>
                                  <a:pt x="156" y="52"/>
                                </a:lnTo>
                                <a:lnTo>
                                  <a:pt x="190" y="0"/>
                                </a:lnTo>
                                <a:lnTo>
                                  <a:pt x="232" y="17"/>
                                </a:lnTo>
                                <a:lnTo>
                                  <a:pt x="271" y="43"/>
                                </a:lnTo>
                                <a:lnTo>
                                  <a:pt x="314" y="73"/>
                                </a:lnTo>
                                <a:lnTo>
                                  <a:pt x="357" y="114"/>
                                </a:lnTo>
                                <a:lnTo>
                                  <a:pt x="398" y="148"/>
                                </a:lnTo>
                                <a:lnTo>
                                  <a:pt x="462" y="218"/>
                                </a:lnTo>
                                <a:lnTo>
                                  <a:pt x="450" y="276"/>
                                </a:lnTo>
                                <a:lnTo>
                                  <a:pt x="433" y="350"/>
                                </a:lnTo>
                                <a:lnTo>
                                  <a:pt x="419" y="426"/>
                                </a:lnTo>
                                <a:lnTo>
                                  <a:pt x="411" y="480"/>
                                </a:lnTo>
                                <a:lnTo>
                                  <a:pt x="406" y="510"/>
                                </a:lnTo>
                                <a:lnTo>
                                  <a:pt x="387" y="561"/>
                                </a:lnTo>
                                <a:lnTo>
                                  <a:pt x="637" y="810"/>
                                </a:lnTo>
                                <a:lnTo>
                                  <a:pt x="667" y="881"/>
                                </a:lnTo>
                                <a:lnTo>
                                  <a:pt x="688" y="952"/>
                                </a:lnTo>
                                <a:lnTo>
                                  <a:pt x="713" y="1020"/>
                                </a:lnTo>
                                <a:lnTo>
                                  <a:pt x="722" y="1067"/>
                                </a:lnTo>
                                <a:lnTo>
                                  <a:pt x="718" y="1124"/>
                                </a:lnTo>
                                <a:lnTo>
                                  <a:pt x="715" y="1169"/>
                                </a:lnTo>
                                <a:lnTo>
                                  <a:pt x="701" y="1242"/>
                                </a:lnTo>
                                <a:lnTo>
                                  <a:pt x="530" y="1418"/>
                                </a:lnTo>
                                <a:lnTo>
                                  <a:pt x="450" y="1414"/>
                                </a:lnTo>
                                <a:lnTo>
                                  <a:pt x="224" y="1390"/>
                                </a:lnTo>
                                <a:lnTo>
                                  <a:pt x="119" y="1266"/>
                                </a:lnTo>
                                <a:lnTo>
                                  <a:pt x="106" y="1208"/>
                                </a:lnTo>
                                <a:lnTo>
                                  <a:pt x="84" y="1122"/>
                                </a:lnTo>
                                <a:lnTo>
                                  <a:pt x="51" y="1047"/>
                                </a:lnTo>
                                <a:lnTo>
                                  <a:pt x="37" y="973"/>
                                </a:lnTo>
                                <a:lnTo>
                                  <a:pt x="60" y="977"/>
                                </a:lnTo>
                                <a:lnTo>
                                  <a:pt x="106" y="1024"/>
                                </a:lnTo>
                                <a:lnTo>
                                  <a:pt x="155" y="1039"/>
                                </a:lnTo>
                                <a:lnTo>
                                  <a:pt x="165" y="1021"/>
                                </a:lnTo>
                                <a:lnTo>
                                  <a:pt x="186" y="1020"/>
                                </a:lnTo>
                                <a:lnTo>
                                  <a:pt x="190" y="939"/>
                                </a:lnTo>
                                <a:lnTo>
                                  <a:pt x="197" y="855"/>
                                </a:lnTo>
                                <a:lnTo>
                                  <a:pt x="74" y="730"/>
                                </a:lnTo>
                                <a:lnTo>
                                  <a:pt x="131" y="502"/>
                                </a:lnTo>
                                <a:lnTo>
                                  <a:pt x="159" y="417"/>
                                </a:lnTo>
                                <a:lnTo>
                                  <a:pt x="134" y="409"/>
                                </a:lnTo>
                                <a:lnTo>
                                  <a:pt x="152" y="389"/>
                                </a:lnTo>
                                <a:lnTo>
                                  <a:pt x="79" y="350"/>
                                </a:lnTo>
                                <a:lnTo>
                                  <a:pt x="0" y="32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2" name=""/>
                        <p:cNvGrpSpPr/>
                        <p:nvPr/>
                      </p:nvGrpSpPr>
                      <p:grpSpPr>
                        <a:xfrm>
                          <a:off x="6757560" y="4654800"/>
                          <a:ext cx="94320" cy="647280"/>
                          <a:chOff x="6757560" y="4654800"/>
                          <a:chExt cx="94320" cy="647280"/>
                        </a:xfrm>
                      </p:grpSpPr>
                      <p:grpSp>
                        <p:nvGrpSpPr>
                          <p:cNvPr id="223" name=""/>
                          <p:cNvGrpSpPr/>
                          <p:nvPr/>
                        </p:nvGrpSpPr>
                        <p:grpSpPr>
                          <a:xfrm>
                            <a:off x="6757560" y="4654800"/>
                            <a:ext cx="86400" cy="64800"/>
                            <a:chOff x="6757560" y="4654800"/>
                            <a:chExt cx="86400" cy="64800"/>
                          </a:xfrm>
                        </p:grpSpPr>
                        <p:sp>
                          <p:nvSpPr>
                            <p:cNvPr id="224" name=""/>
                            <p:cNvSpPr/>
                            <p:nvPr/>
                          </p:nvSpPr>
                          <p:spPr>
                            <a:xfrm flipV="1">
                              <a:off x="6757560" y="4654800"/>
                              <a:ext cx="76680" cy="39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560" bIns="-7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5" name=""/>
                            <p:cNvSpPr/>
                            <p:nvPr/>
                          </p:nvSpPr>
                          <p:spPr>
                            <a:xfrm flipV="1">
                              <a:off x="6763680" y="4706280"/>
                              <a:ext cx="80280" cy="133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480" bIns="-334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6" name=""/>
                          <p:cNvGrpSpPr/>
                          <p:nvPr/>
                        </p:nvGrpSpPr>
                        <p:grpSpPr>
                          <a:xfrm>
                            <a:off x="6760440" y="5098680"/>
                            <a:ext cx="91440" cy="203400"/>
                            <a:chOff x="6760440" y="5098680"/>
                            <a:chExt cx="91440" cy="203400"/>
                          </a:xfrm>
                        </p:grpSpPr>
                        <p:sp>
                          <p:nvSpPr>
                            <p:cNvPr id="227" name=""/>
                            <p:cNvSpPr/>
                            <p:nvPr/>
                          </p:nvSpPr>
                          <p:spPr>
                            <a:xfrm>
                              <a:off x="6794280" y="5098680"/>
                              <a:ext cx="57600" cy="11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" h="14">
                                  <a:moveTo>
                                    <a:pt x="0" y="0"/>
                                  </a:moveTo>
                                  <a:lnTo>
                                    <a:pt x="19" y="14"/>
                                  </a:lnTo>
                                  <a:lnTo>
                                    <a:pt x="73" y="6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4920" bIns="-349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8" name=""/>
                            <p:cNvSpPr/>
                            <p:nvPr/>
                          </p:nvSpPr>
                          <p:spPr>
                            <a:xfrm>
                              <a:off x="6786000" y="5240160"/>
                              <a:ext cx="41760" cy="56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1" h="65">
                                  <a:moveTo>
                                    <a:pt x="0" y="0"/>
                                  </a:moveTo>
                                  <a:lnTo>
                                    <a:pt x="17" y="30"/>
                                  </a:lnTo>
                                  <a:lnTo>
                                    <a:pt x="51" y="65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9720" bIns="9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9" name=""/>
                            <p:cNvSpPr/>
                            <p:nvPr/>
                          </p:nvSpPr>
                          <p:spPr>
                            <a:xfrm>
                              <a:off x="6760440" y="5258880"/>
                              <a:ext cx="20880" cy="432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600" bIns="-3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6889680" y="4471920"/>
                        <a:ext cx="116280" cy="21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" h="249">
                            <a:moveTo>
                              <a:pt x="63" y="0"/>
                            </a:moveTo>
                            <a:lnTo>
                              <a:pt x="13" y="37"/>
                            </a:lnTo>
                            <a:lnTo>
                              <a:pt x="0" y="79"/>
                            </a:lnTo>
                            <a:lnTo>
                              <a:pt x="52" y="118"/>
                            </a:lnTo>
                            <a:lnTo>
                              <a:pt x="62" y="148"/>
                            </a:lnTo>
                            <a:lnTo>
                              <a:pt x="43" y="216"/>
                            </a:lnTo>
                            <a:lnTo>
                              <a:pt x="53" y="243"/>
                            </a:lnTo>
                            <a:lnTo>
                              <a:pt x="113" y="249"/>
                            </a:lnTo>
                            <a:lnTo>
                              <a:pt x="145" y="89"/>
                            </a:lnTo>
                            <a:lnTo>
                              <a:pt x="97" y="33"/>
                            </a:lnTo>
                            <a:lnTo>
                              <a:pt x="81" y="15"/>
                            </a:lnTo>
                            <a:lnTo>
                              <a:pt x="63" y="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7145640" y="5224320"/>
                    <a:ext cx="34920" cy="137520"/>
                    <a:chOff x="7145640" y="5224320"/>
                    <a:chExt cx="34920" cy="1375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7147080" y="5224320"/>
                      <a:ext cx="33480" cy="5652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7145640" y="5306760"/>
                      <a:ext cx="33480" cy="5508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34" name=""/>
            <p:cNvGrpSpPr/>
            <p:nvPr/>
          </p:nvGrpSpPr>
          <p:grpSpPr>
            <a:xfrm>
              <a:off x="7434360" y="4648680"/>
              <a:ext cx="1451880" cy="1850760"/>
              <a:chOff x="7434360" y="4648680"/>
              <a:chExt cx="1451880" cy="185076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7434360" y="5216040"/>
                <a:ext cx="1451880" cy="1283400"/>
                <a:chOff x="7434360" y="5216040"/>
                <a:chExt cx="1451880" cy="12834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434360" y="6313680"/>
                  <a:ext cx="694440" cy="176400"/>
                </a:xfrm>
                <a:custGeom>
                  <a:avLst/>
                  <a:gdLst/>
                  <a:ahLst/>
                  <a:rect l="l" t="t" r="r" b="b"/>
                  <a:pathLst>
                    <a:path w="860" h="203">
                      <a:moveTo>
                        <a:pt x="256" y="0"/>
                      </a:moveTo>
                      <a:lnTo>
                        <a:pt x="792" y="0"/>
                      </a:lnTo>
                      <a:lnTo>
                        <a:pt x="860" y="203"/>
                      </a:lnTo>
                      <a:lnTo>
                        <a:pt x="0" y="186"/>
                      </a:lnTo>
                      <a:lnTo>
                        <a:pt x="25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" name=""/>
                <p:cNvGrpSpPr/>
                <p:nvPr/>
              </p:nvGrpSpPr>
              <p:grpSpPr>
                <a:xfrm>
                  <a:off x="7774920" y="5216040"/>
                  <a:ext cx="1111320" cy="1283400"/>
                  <a:chOff x="7774920" y="5216040"/>
                  <a:chExt cx="1111320" cy="1283400"/>
                </a:xfrm>
              </p:grpSpPr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7831440" y="5350680"/>
                    <a:ext cx="930240" cy="1148760"/>
                    <a:chOff x="7831440" y="5350680"/>
                    <a:chExt cx="930240" cy="114876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7831440" y="5350680"/>
                      <a:ext cx="930240" cy="114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2" h="1329">
                          <a:moveTo>
                            <a:pt x="466" y="0"/>
                          </a:moveTo>
                          <a:lnTo>
                            <a:pt x="766" y="0"/>
                          </a:lnTo>
                          <a:lnTo>
                            <a:pt x="734" y="38"/>
                          </a:lnTo>
                          <a:lnTo>
                            <a:pt x="716" y="68"/>
                          </a:lnTo>
                          <a:lnTo>
                            <a:pt x="702" y="98"/>
                          </a:lnTo>
                          <a:lnTo>
                            <a:pt x="693" y="126"/>
                          </a:lnTo>
                          <a:lnTo>
                            <a:pt x="683" y="166"/>
                          </a:lnTo>
                          <a:lnTo>
                            <a:pt x="678" y="204"/>
                          </a:lnTo>
                          <a:lnTo>
                            <a:pt x="671" y="258"/>
                          </a:lnTo>
                          <a:lnTo>
                            <a:pt x="663" y="325"/>
                          </a:lnTo>
                          <a:lnTo>
                            <a:pt x="659" y="406"/>
                          </a:lnTo>
                          <a:lnTo>
                            <a:pt x="652" y="537"/>
                          </a:lnTo>
                          <a:lnTo>
                            <a:pt x="652" y="625"/>
                          </a:lnTo>
                          <a:lnTo>
                            <a:pt x="658" y="712"/>
                          </a:lnTo>
                          <a:lnTo>
                            <a:pt x="665" y="780"/>
                          </a:lnTo>
                          <a:lnTo>
                            <a:pt x="672" y="833"/>
                          </a:lnTo>
                          <a:lnTo>
                            <a:pt x="688" y="884"/>
                          </a:lnTo>
                          <a:lnTo>
                            <a:pt x="699" y="910"/>
                          </a:lnTo>
                          <a:lnTo>
                            <a:pt x="723" y="941"/>
                          </a:lnTo>
                          <a:lnTo>
                            <a:pt x="752" y="968"/>
                          </a:lnTo>
                          <a:lnTo>
                            <a:pt x="788" y="991"/>
                          </a:lnTo>
                          <a:lnTo>
                            <a:pt x="835" y="1016"/>
                          </a:lnTo>
                          <a:lnTo>
                            <a:pt x="875" y="1033"/>
                          </a:lnTo>
                          <a:lnTo>
                            <a:pt x="932" y="1062"/>
                          </a:lnTo>
                          <a:lnTo>
                            <a:pt x="1039" y="1115"/>
                          </a:lnTo>
                          <a:lnTo>
                            <a:pt x="1152" y="1169"/>
                          </a:lnTo>
                          <a:lnTo>
                            <a:pt x="1152" y="1216"/>
                          </a:lnTo>
                          <a:lnTo>
                            <a:pt x="1090" y="1245"/>
                          </a:lnTo>
                          <a:lnTo>
                            <a:pt x="1017" y="1271"/>
                          </a:lnTo>
                          <a:lnTo>
                            <a:pt x="919" y="1295"/>
                          </a:lnTo>
                          <a:lnTo>
                            <a:pt x="813" y="1312"/>
                          </a:lnTo>
                          <a:lnTo>
                            <a:pt x="715" y="1322"/>
                          </a:lnTo>
                          <a:lnTo>
                            <a:pt x="584" y="1329"/>
                          </a:lnTo>
                          <a:lnTo>
                            <a:pt x="460" y="1322"/>
                          </a:lnTo>
                          <a:lnTo>
                            <a:pt x="368" y="1309"/>
                          </a:lnTo>
                          <a:lnTo>
                            <a:pt x="257" y="1295"/>
                          </a:lnTo>
                          <a:lnTo>
                            <a:pt x="149" y="1271"/>
                          </a:lnTo>
                          <a:lnTo>
                            <a:pt x="65" y="1245"/>
                          </a:lnTo>
                          <a:lnTo>
                            <a:pt x="0" y="1216"/>
                          </a:lnTo>
                          <a:lnTo>
                            <a:pt x="0" y="1169"/>
                          </a:lnTo>
                          <a:lnTo>
                            <a:pt x="137" y="1113"/>
                          </a:lnTo>
                          <a:lnTo>
                            <a:pt x="255" y="1062"/>
                          </a:lnTo>
                          <a:lnTo>
                            <a:pt x="315" y="1033"/>
                          </a:lnTo>
                          <a:lnTo>
                            <a:pt x="352" y="1016"/>
                          </a:lnTo>
                          <a:lnTo>
                            <a:pt x="392" y="991"/>
                          </a:lnTo>
                          <a:lnTo>
                            <a:pt x="425" y="965"/>
                          </a:lnTo>
                          <a:lnTo>
                            <a:pt x="445" y="945"/>
                          </a:lnTo>
                          <a:lnTo>
                            <a:pt x="470" y="914"/>
                          </a:lnTo>
                          <a:lnTo>
                            <a:pt x="487" y="884"/>
                          </a:lnTo>
                          <a:lnTo>
                            <a:pt x="504" y="833"/>
                          </a:lnTo>
                          <a:lnTo>
                            <a:pt x="517" y="782"/>
                          </a:lnTo>
                          <a:lnTo>
                            <a:pt x="528" y="712"/>
                          </a:lnTo>
                          <a:lnTo>
                            <a:pt x="538" y="625"/>
                          </a:lnTo>
                          <a:lnTo>
                            <a:pt x="544" y="537"/>
                          </a:lnTo>
                          <a:lnTo>
                            <a:pt x="548" y="409"/>
                          </a:lnTo>
                          <a:lnTo>
                            <a:pt x="543" y="324"/>
                          </a:lnTo>
                          <a:lnTo>
                            <a:pt x="540" y="231"/>
                          </a:lnTo>
                          <a:lnTo>
                            <a:pt x="535" y="180"/>
                          </a:lnTo>
                          <a:lnTo>
                            <a:pt x="528" y="132"/>
                          </a:lnTo>
                          <a:lnTo>
                            <a:pt x="518" y="93"/>
                          </a:lnTo>
                          <a:lnTo>
                            <a:pt x="507" y="62"/>
                          </a:lnTo>
                          <a:lnTo>
                            <a:pt x="491" y="34"/>
                          </a:lnTo>
                          <a:lnTo>
                            <a:pt x="466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0" name=""/>
                    <p:cNvGrpSpPr/>
                    <p:nvPr/>
                  </p:nvGrpSpPr>
                  <p:grpSpPr>
                    <a:xfrm>
                      <a:off x="7831440" y="6179760"/>
                      <a:ext cx="926640" cy="279720"/>
                      <a:chOff x="7831440" y="6179760"/>
                      <a:chExt cx="926640" cy="279720"/>
                    </a:xfrm>
                  </p:grpSpPr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8184600" y="6179760"/>
                        <a:ext cx="24372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3" h="41">
                            <a:moveTo>
                              <a:pt x="0" y="1"/>
                            </a:moveTo>
                            <a:lnTo>
                              <a:pt x="35" y="17"/>
                            </a:lnTo>
                            <a:lnTo>
                              <a:pt x="73" y="29"/>
                            </a:lnTo>
                            <a:lnTo>
                              <a:pt x="114" y="37"/>
                            </a:lnTo>
                            <a:lnTo>
                              <a:pt x="158" y="41"/>
                            </a:lnTo>
                            <a:lnTo>
                              <a:pt x="207" y="35"/>
                            </a:lnTo>
                            <a:lnTo>
                              <a:pt x="248" y="24"/>
                            </a:lnTo>
                            <a:lnTo>
                              <a:pt x="279" y="14"/>
                            </a:lnTo>
                            <a:lnTo>
                              <a:pt x="303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7831440" y="6363000"/>
                        <a:ext cx="926640" cy="9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8" h="113">
                            <a:moveTo>
                              <a:pt x="0" y="2"/>
                            </a:moveTo>
                            <a:lnTo>
                              <a:pt x="64" y="30"/>
                            </a:lnTo>
                            <a:lnTo>
                              <a:pt x="128" y="49"/>
                            </a:lnTo>
                            <a:lnTo>
                              <a:pt x="180" y="64"/>
                            </a:lnTo>
                            <a:lnTo>
                              <a:pt x="255" y="79"/>
                            </a:lnTo>
                            <a:lnTo>
                              <a:pt x="329" y="90"/>
                            </a:lnTo>
                            <a:lnTo>
                              <a:pt x="406" y="100"/>
                            </a:lnTo>
                            <a:lnTo>
                              <a:pt x="472" y="108"/>
                            </a:lnTo>
                            <a:lnTo>
                              <a:pt x="578" y="113"/>
                            </a:lnTo>
                            <a:lnTo>
                              <a:pt x="703" y="108"/>
                            </a:lnTo>
                            <a:lnTo>
                              <a:pt x="780" y="100"/>
                            </a:lnTo>
                            <a:lnTo>
                              <a:pt x="906" y="81"/>
                            </a:lnTo>
                            <a:lnTo>
                              <a:pt x="970" y="69"/>
                            </a:lnTo>
                            <a:lnTo>
                              <a:pt x="1029" y="52"/>
                            </a:lnTo>
                            <a:lnTo>
                              <a:pt x="1097" y="26"/>
                            </a:lnTo>
                            <a:lnTo>
                              <a:pt x="1148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3" name=""/>
                  <p:cNvSpPr/>
                  <p:nvPr/>
                </p:nvSpPr>
                <p:spPr>
                  <a:xfrm>
                    <a:off x="7774920" y="5216040"/>
                    <a:ext cx="1111320" cy="15840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" name=""/>
              <p:cNvGrpSpPr/>
              <p:nvPr/>
            </p:nvGrpSpPr>
            <p:grpSpPr>
              <a:xfrm>
                <a:off x="7796160" y="4648680"/>
                <a:ext cx="1030320" cy="632160"/>
                <a:chOff x="7796160" y="4648680"/>
                <a:chExt cx="1030320" cy="63216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7796160" y="5099760"/>
                  <a:ext cx="1030320" cy="181080"/>
                  <a:chOff x="7796160" y="5099760"/>
                  <a:chExt cx="1030320" cy="181080"/>
                </a:xfrm>
              </p:grpSpPr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7796160" y="5099760"/>
                    <a:ext cx="420480" cy="107640"/>
                    <a:chOff x="7796160" y="5099760"/>
                    <a:chExt cx="420480" cy="10764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7824960" y="5099760"/>
                      <a:ext cx="28872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9" h="100">
                          <a:moveTo>
                            <a:pt x="0" y="54"/>
                          </a:moveTo>
                          <a:lnTo>
                            <a:pt x="155" y="46"/>
                          </a:lnTo>
                          <a:lnTo>
                            <a:pt x="359" y="0"/>
                          </a:lnTo>
                          <a:lnTo>
                            <a:pt x="359" y="67"/>
                          </a:lnTo>
                          <a:lnTo>
                            <a:pt x="147" y="95"/>
                          </a:lnTo>
                          <a:lnTo>
                            <a:pt x="0" y="100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8" name=""/>
                    <p:cNvGrpSpPr/>
                    <p:nvPr/>
                  </p:nvGrpSpPr>
                  <p:grpSpPr>
                    <a:xfrm>
                      <a:off x="7796160" y="5104800"/>
                      <a:ext cx="420480" cy="102600"/>
                      <a:chOff x="7796160" y="5104800"/>
                      <a:chExt cx="420480" cy="102600"/>
                    </a:xfrm>
                  </p:grpSpPr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8175240" y="5163120"/>
                        <a:ext cx="20520" cy="396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0" name=""/>
                      <p:cNvGrpSpPr/>
                      <p:nvPr/>
                    </p:nvGrpSpPr>
                    <p:grpSpPr>
                      <a:xfrm>
                        <a:off x="7796160" y="5104800"/>
                        <a:ext cx="420480" cy="102600"/>
                        <a:chOff x="7796160" y="5104800"/>
                        <a:chExt cx="420480" cy="102600"/>
                      </a:xfrm>
                    </p:grpSpPr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7796160" y="5104800"/>
                          <a:ext cx="420480" cy="10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1" h="120">
                              <a:moveTo>
                                <a:pt x="521" y="0"/>
                              </a:moveTo>
                              <a:lnTo>
                                <a:pt x="194" y="68"/>
                              </a:lnTo>
                              <a:lnTo>
                                <a:pt x="0" y="80"/>
                              </a:lnTo>
                              <a:lnTo>
                                <a:pt x="0" y="120"/>
                              </a:lnTo>
                              <a:lnTo>
                                <a:pt x="200" y="110"/>
                              </a:lnTo>
                              <a:lnTo>
                                <a:pt x="521" y="77"/>
                              </a:lnTo>
                              <a:lnTo>
                                <a:pt x="52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7815240" y="5123520"/>
                          <a:ext cx="386640" cy="6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0" h="74">
                              <a:moveTo>
                                <a:pt x="0" y="74"/>
                              </a:moveTo>
                              <a:lnTo>
                                <a:pt x="179" y="63"/>
                              </a:lnTo>
                              <a:lnTo>
                                <a:pt x="480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200" bIns="16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8183520" y="5165280"/>
                    <a:ext cx="64296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96" h="135">
                        <a:moveTo>
                          <a:pt x="0" y="51"/>
                        </a:moveTo>
                        <a:lnTo>
                          <a:pt x="9" y="84"/>
                        </a:lnTo>
                        <a:lnTo>
                          <a:pt x="21" y="102"/>
                        </a:lnTo>
                        <a:lnTo>
                          <a:pt x="43" y="119"/>
                        </a:lnTo>
                        <a:lnTo>
                          <a:pt x="65" y="128"/>
                        </a:lnTo>
                        <a:lnTo>
                          <a:pt x="94" y="131"/>
                        </a:lnTo>
                        <a:lnTo>
                          <a:pt x="117" y="122"/>
                        </a:lnTo>
                        <a:lnTo>
                          <a:pt x="149" y="111"/>
                        </a:lnTo>
                        <a:lnTo>
                          <a:pt x="189" y="101"/>
                        </a:lnTo>
                        <a:lnTo>
                          <a:pt x="235" y="97"/>
                        </a:lnTo>
                        <a:lnTo>
                          <a:pt x="291" y="102"/>
                        </a:lnTo>
                        <a:lnTo>
                          <a:pt x="341" y="114"/>
                        </a:lnTo>
                        <a:lnTo>
                          <a:pt x="392" y="128"/>
                        </a:lnTo>
                        <a:lnTo>
                          <a:pt x="441" y="135"/>
                        </a:lnTo>
                        <a:lnTo>
                          <a:pt x="475" y="131"/>
                        </a:lnTo>
                        <a:lnTo>
                          <a:pt x="530" y="122"/>
                        </a:lnTo>
                        <a:lnTo>
                          <a:pt x="591" y="114"/>
                        </a:lnTo>
                        <a:lnTo>
                          <a:pt x="651" y="102"/>
                        </a:lnTo>
                        <a:lnTo>
                          <a:pt x="715" y="89"/>
                        </a:lnTo>
                        <a:lnTo>
                          <a:pt x="753" y="80"/>
                        </a:lnTo>
                        <a:lnTo>
                          <a:pt x="772" y="72"/>
                        </a:lnTo>
                        <a:lnTo>
                          <a:pt x="787" y="62"/>
                        </a:lnTo>
                        <a:lnTo>
                          <a:pt x="796" y="47"/>
                        </a:lnTo>
                        <a:lnTo>
                          <a:pt x="789" y="24"/>
                        </a:lnTo>
                        <a:lnTo>
                          <a:pt x="776" y="11"/>
                        </a:lnTo>
                        <a:lnTo>
                          <a:pt x="753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8227440" y="4648680"/>
                  <a:ext cx="554760" cy="567000"/>
                  <a:chOff x="8227440" y="4648680"/>
                  <a:chExt cx="554760" cy="567000"/>
                </a:xfrm>
              </p:grpSpPr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8246520" y="4957920"/>
                    <a:ext cx="535680" cy="257760"/>
                    <a:chOff x="8246520" y="4957920"/>
                    <a:chExt cx="535680" cy="257760"/>
                  </a:xfrm>
                </p:grpSpPr>
                <p:grpSp>
                  <p:nvGrpSpPr>
                    <p:cNvPr id="256" name=""/>
                    <p:cNvGrpSpPr/>
                    <p:nvPr/>
                  </p:nvGrpSpPr>
                  <p:grpSpPr>
                    <a:xfrm>
                      <a:off x="8246520" y="4979880"/>
                      <a:ext cx="535680" cy="235800"/>
                      <a:chOff x="8246520" y="4979880"/>
                      <a:chExt cx="535680" cy="235800"/>
                    </a:xfrm>
                  </p:grpSpPr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8246520" y="4979880"/>
                        <a:ext cx="535680" cy="2235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8" name=""/>
                      <p:cNvGrpSpPr/>
                      <p:nvPr/>
                    </p:nvGrpSpPr>
                    <p:grpSpPr>
                      <a:xfrm>
                        <a:off x="8270640" y="5000400"/>
                        <a:ext cx="496080" cy="215280"/>
                        <a:chOff x="8270640" y="5000400"/>
                        <a:chExt cx="496080" cy="215280"/>
                      </a:xfrm>
                    </p:grpSpPr>
                    <p:grpSp>
                      <p:nvGrpSpPr>
                        <p:cNvPr id="259" name=""/>
                        <p:cNvGrpSpPr/>
                        <p:nvPr/>
                      </p:nvGrpSpPr>
                      <p:grpSpPr>
                        <a:xfrm>
                          <a:off x="8270640" y="5000400"/>
                          <a:ext cx="496080" cy="122760"/>
                          <a:chOff x="8270640" y="5000400"/>
                          <a:chExt cx="496080" cy="122760"/>
                        </a:xfrm>
                      </p:grpSpPr>
                      <p:grpSp>
                        <p:nvGrpSpPr>
                          <p:cNvPr id="260" name=""/>
                          <p:cNvGrpSpPr/>
                          <p:nvPr/>
                        </p:nvGrpSpPr>
                        <p:grpSpPr>
                          <a:xfrm>
                            <a:off x="8270640" y="5000400"/>
                            <a:ext cx="496080" cy="45720"/>
                            <a:chOff x="8270640" y="5000400"/>
                            <a:chExt cx="496080" cy="45720"/>
                          </a:xfrm>
                        </p:grpSpPr>
                        <p:sp>
                          <p:nvSpPr>
                            <p:cNvPr id="261" name=""/>
                            <p:cNvSpPr/>
                            <p:nvPr/>
                          </p:nvSpPr>
                          <p:spPr>
                            <a:xfrm>
                              <a:off x="8272080" y="5000400"/>
                              <a:ext cx="49464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2" name=""/>
                            <p:cNvSpPr/>
                            <p:nvPr/>
                          </p:nvSpPr>
                          <p:spPr>
                            <a:xfrm>
                              <a:off x="8270640" y="5022360"/>
                              <a:ext cx="49608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3" name=""/>
                            <p:cNvSpPr/>
                            <p:nvPr/>
                          </p:nvSpPr>
                          <p:spPr>
                            <a:xfrm>
                              <a:off x="8272080" y="5044680"/>
                              <a:ext cx="49464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4" name=""/>
                          <p:cNvGrpSpPr/>
                          <p:nvPr/>
                        </p:nvGrpSpPr>
                        <p:grpSpPr>
                          <a:xfrm>
                            <a:off x="8272080" y="5077440"/>
                            <a:ext cx="494640" cy="45720"/>
                            <a:chOff x="8272080" y="5077440"/>
                            <a:chExt cx="494640" cy="45720"/>
                          </a:xfrm>
                        </p:grpSpPr>
                        <p:sp>
                          <p:nvSpPr>
                            <p:cNvPr id="265" name=""/>
                            <p:cNvSpPr/>
                            <p:nvPr/>
                          </p:nvSpPr>
                          <p:spPr>
                            <a:xfrm>
                              <a:off x="8272080" y="5077440"/>
                              <a:ext cx="49464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6" name=""/>
                            <p:cNvSpPr/>
                            <p:nvPr/>
                          </p:nvSpPr>
                          <p:spPr>
                            <a:xfrm>
                              <a:off x="8272080" y="5099760"/>
                              <a:ext cx="49464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7" name=""/>
                            <p:cNvSpPr/>
                            <p:nvPr/>
                          </p:nvSpPr>
                          <p:spPr>
                            <a:xfrm>
                              <a:off x="8272080" y="5121720"/>
                              <a:ext cx="49464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68" name=""/>
                        <p:cNvGrpSpPr/>
                        <p:nvPr/>
                      </p:nvGrpSpPr>
                      <p:grpSpPr>
                        <a:xfrm>
                          <a:off x="8272080" y="5156640"/>
                          <a:ext cx="472320" cy="59040"/>
                          <a:chOff x="8272080" y="5156640"/>
                          <a:chExt cx="472320" cy="59040"/>
                        </a:xfrm>
                      </p:grpSpPr>
                      <p:grpSp>
                        <p:nvGrpSpPr>
                          <p:cNvPr id="269" name=""/>
                          <p:cNvGrpSpPr/>
                          <p:nvPr/>
                        </p:nvGrpSpPr>
                        <p:grpSpPr>
                          <a:xfrm>
                            <a:off x="8272080" y="5156640"/>
                            <a:ext cx="174960" cy="58680"/>
                            <a:chOff x="8272080" y="5156640"/>
                            <a:chExt cx="174960" cy="58680"/>
                          </a:xfrm>
                        </p:grpSpPr>
                        <p:grpSp>
                          <p:nvGrpSpPr>
                            <p:cNvPr id="270" name=""/>
                            <p:cNvGrpSpPr/>
                            <p:nvPr/>
                          </p:nvGrpSpPr>
                          <p:grpSpPr>
                            <a:xfrm>
                              <a:off x="8272080" y="5156640"/>
                              <a:ext cx="73440" cy="58680"/>
                              <a:chOff x="8272080" y="5156640"/>
                              <a:chExt cx="73440" cy="58680"/>
                            </a:xfrm>
                          </p:grpSpPr>
                          <p:grpSp>
                            <p:nvGrpSpPr>
                              <p:cNvPr id="271" name=""/>
                              <p:cNvGrpSpPr/>
                              <p:nvPr/>
                            </p:nvGrpSpPr>
                            <p:grpSpPr>
                              <a:xfrm>
                                <a:off x="8272080" y="5156640"/>
                                <a:ext cx="24120" cy="58680"/>
                                <a:chOff x="8272080" y="5156640"/>
                                <a:chExt cx="24120" cy="58680"/>
                              </a:xfrm>
                            </p:grpSpPr>
                            <p:sp>
                              <p:nvSpPr>
                                <p:cNvPr id="272" name=""/>
                                <p:cNvSpPr/>
                                <p:nvPr/>
                              </p:nvSpPr>
                              <p:spPr>
                                <a:xfrm>
                                  <a:off x="8272080" y="5156640"/>
                                  <a:ext cx="1800" cy="57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0440" bIns="104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" name=""/>
                                <p:cNvSpPr/>
                                <p:nvPr/>
                              </p:nvSpPr>
                              <p:spPr>
                                <a:xfrm>
                                  <a:off x="8294400" y="5158440"/>
                                  <a:ext cx="1800" cy="568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0080" bIns="100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74" name=""/>
                              <p:cNvSpPr/>
                              <p:nvPr/>
                            </p:nvSpPr>
                            <p:spPr>
                              <a:xfrm>
                                <a:off x="8321760" y="5156640"/>
                                <a:ext cx="1800" cy="576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0" bIns="10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5" name=""/>
                              <p:cNvSpPr/>
                              <p:nvPr/>
                            </p:nvSpPr>
                            <p:spPr>
                              <a:xfrm>
                                <a:off x="8344080" y="5156640"/>
                                <a:ext cx="1440" cy="576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0" bIns="10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76" name=""/>
                            <p:cNvGrpSpPr/>
                            <p:nvPr/>
                          </p:nvGrpSpPr>
                          <p:grpSpPr>
                            <a:xfrm>
                              <a:off x="8371800" y="5156640"/>
                              <a:ext cx="75240" cy="57240"/>
                              <a:chOff x="8371800" y="5156640"/>
                              <a:chExt cx="75240" cy="57240"/>
                            </a:xfrm>
                          </p:grpSpPr>
                          <p:grpSp>
                            <p:nvGrpSpPr>
                              <p:cNvPr id="277" name=""/>
                              <p:cNvGrpSpPr/>
                              <p:nvPr/>
                            </p:nvGrpSpPr>
                            <p:grpSpPr>
                              <a:xfrm>
                                <a:off x="8371800" y="5156640"/>
                                <a:ext cx="23760" cy="57240"/>
                                <a:chOff x="8371800" y="5156640"/>
                                <a:chExt cx="23760" cy="57240"/>
                              </a:xfrm>
                            </p:grpSpPr>
                            <p:sp>
                              <p:nvSpPr>
                                <p:cNvPr id="278" name=""/>
                                <p:cNvSpPr/>
                                <p:nvPr/>
                              </p:nvSpPr>
                              <p:spPr>
                                <a:xfrm>
                                  <a:off x="8371800" y="5156640"/>
                                  <a:ext cx="1440" cy="55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9000" bIns="9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9" name=""/>
                                <p:cNvSpPr/>
                                <p:nvPr/>
                              </p:nvSpPr>
                              <p:spPr>
                                <a:xfrm>
                                  <a:off x="8394120" y="5156640"/>
                                  <a:ext cx="1440" cy="57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0440" bIns="104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80" name=""/>
                              <p:cNvSpPr/>
                              <p:nvPr/>
                            </p:nvSpPr>
                            <p:spPr>
                              <a:xfrm>
                                <a:off x="8423280" y="5156640"/>
                                <a:ext cx="1440" cy="561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9360" bIns="9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1" name=""/>
                              <p:cNvSpPr/>
                              <p:nvPr/>
                            </p:nvSpPr>
                            <p:spPr>
                              <a:xfrm>
                                <a:off x="8445600" y="5156640"/>
                                <a:ext cx="1440" cy="561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9360" bIns="9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82" name=""/>
                          <p:cNvGrpSpPr/>
                          <p:nvPr/>
                        </p:nvGrpSpPr>
                        <p:grpSpPr>
                          <a:xfrm>
                            <a:off x="8470440" y="5156640"/>
                            <a:ext cx="174960" cy="59040"/>
                            <a:chOff x="8470440" y="5156640"/>
                            <a:chExt cx="174960" cy="59040"/>
                          </a:xfrm>
                        </p:grpSpPr>
                        <p:grpSp>
                          <p:nvGrpSpPr>
                            <p:cNvPr id="283" name=""/>
                            <p:cNvGrpSpPr/>
                            <p:nvPr/>
                          </p:nvGrpSpPr>
                          <p:grpSpPr>
                            <a:xfrm>
                              <a:off x="8470440" y="5158440"/>
                              <a:ext cx="75240" cy="57240"/>
                              <a:chOff x="8470440" y="5158440"/>
                              <a:chExt cx="75240" cy="57240"/>
                            </a:xfrm>
                          </p:grpSpPr>
                          <p:grpSp>
                            <p:nvGrpSpPr>
                              <p:cNvPr id="284" name=""/>
                              <p:cNvGrpSpPr/>
                              <p:nvPr/>
                            </p:nvGrpSpPr>
                            <p:grpSpPr>
                              <a:xfrm>
                                <a:off x="8470440" y="5158440"/>
                                <a:ext cx="25200" cy="56880"/>
                                <a:chOff x="8470440" y="5158440"/>
                                <a:chExt cx="25200" cy="56880"/>
                              </a:xfrm>
                            </p:grpSpPr>
                            <p:sp>
                              <p:nvSpPr>
                                <p:cNvPr id="285" name=""/>
                                <p:cNvSpPr/>
                                <p:nvPr/>
                              </p:nvSpPr>
                              <p:spPr>
                                <a:xfrm>
                                  <a:off x="8470440" y="5158440"/>
                                  <a:ext cx="1440" cy="568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0080" bIns="100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6" name=""/>
                                <p:cNvSpPr/>
                                <p:nvPr/>
                              </p:nvSpPr>
                              <p:spPr>
                                <a:xfrm>
                                  <a:off x="8494200" y="5159880"/>
                                  <a:ext cx="1440" cy="55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8640" bIns="86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87" name=""/>
                              <p:cNvSpPr/>
                              <p:nvPr/>
                            </p:nvSpPr>
                            <p:spPr>
                              <a:xfrm>
                                <a:off x="8521920" y="5158440"/>
                                <a:ext cx="1440" cy="572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440" bIns="10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8" name=""/>
                              <p:cNvSpPr/>
                              <p:nvPr/>
                            </p:nvSpPr>
                            <p:spPr>
                              <a:xfrm>
                                <a:off x="8544240" y="5158440"/>
                                <a:ext cx="1440" cy="572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440" bIns="10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9" name=""/>
                            <p:cNvGrpSpPr/>
                            <p:nvPr/>
                          </p:nvGrpSpPr>
                          <p:grpSpPr>
                            <a:xfrm>
                              <a:off x="8571960" y="5156640"/>
                              <a:ext cx="73440" cy="58680"/>
                              <a:chOff x="8571960" y="5156640"/>
                              <a:chExt cx="73440" cy="58680"/>
                            </a:xfrm>
                          </p:grpSpPr>
                          <p:grpSp>
                            <p:nvGrpSpPr>
                              <p:cNvPr id="290" name=""/>
                              <p:cNvGrpSpPr/>
                              <p:nvPr/>
                            </p:nvGrpSpPr>
                            <p:grpSpPr>
                              <a:xfrm>
                                <a:off x="8571960" y="5156640"/>
                                <a:ext cx="23760" cy="58680"/>
                                <a:chOff x="8571960" y="5156640"/>
                                <a:chExt cx="23760" cy="58680"/>
                              </a:xfrm>
                            </p:grpSpPr>
                            <p:sp>
                              <p:nvSpPr>
                                <p:cNvPr id="291" name=""/>
                                <p:cNvSpPr/>
                                <p:nvPr/>
                              </p:nvSpPr>
                              <p:spPr>
                                <a:xfrm>
                                  <a:off x="8571960" y="5156640"/>
                                  <a:ext cx="1440" cy="57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0440" bIns="104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2" name=""/>
                                <p:cNvSpPr/>
                                <p:nvPr/>
                              </p:nvSpPr>
                              <p:spPr>
                                <a:xfrm>
                                  <a:off x="8593920" y="5158440"/>
                                  <a:ext cx="1800" cy="568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0080" bIns="100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93" name=""/>
                              <p:cNvSpPr/>
                              <p:nvPr/>
                            </p:nvSpPr>
                            <p:spPr>
                              <a:xfrm>
                                <a:off x="8621280" y="5156640"/>
                                <a:ext cx="1800" cy="576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0" bIns="10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4" name=""/>
                              <p:cNvSpPr/>
                              <p:nvPr/>
                            </p:nvSpPr>
                            <p:spPr>
                              <a:xfrm>
                                <a:off x="8643600" y="5156640"/>
                                <a:ext cx="1800" cy="576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0" bIns="10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95" name=""/>
                          <p:cNvGrpSpPr/>
                          <p:nvPr/>
                        </p:nvGrpSpPr>
                        <p:grpSpPr>
                          <a:xfrm>
                            <a:off x="8668800" y="5156640"/>
                            <a:ext cx="75600" cy="59040"/>
                            <a:chOff x="8668800" y="5156640"/>
                            <a:chExt cx="75600" cy="59040"/>
                          </a:xfrm>
                        </p:grpSpPr>
                        <p:grpSp>
                          <p:nvGrpSpPr>
                            <p:cNvPr id="296" name=""/>
                            <p:cNvGrpSpPr/>
                            <p:nvPr/>
                          </p:nvGrpSpPr>
                          <p:grpSpPr>
                            <a:xfrm>
                              <a:off x="8668800" y="5156640"/>
                              <a:ext cx="25560" cy="59040"/>
                              <a:chOff x="8668800" y="5156640"/>
                              <a:chExt cx="25560" cy="59040"/>
                            </a:xfrm>
                          </p:grpSpPr>
                          <p:sp>
                            <p:nvSpPr>
                              <p:cNvPr id="297" name=""/>
                              <p:cNvSpPr/>
                              <p:nvPr/>
                            </p:nvSpPr>
                            <p:spPr>
                              <a:xfrm>
                                <a:off x="8668800" y="5156640"/>
                                <a:ext cx="1800" cy="576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0" bIns="10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8" name=""/>
                              <p:cNvSpPr/>
                              <p:nvPr/>
                            </p:nvSpPr>
                            <p:spPr>
                              <a:xfrm>
                                <a:off x="8692560" y="5158440"/>
                                <a:ext cx="1800" cy="572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440" bIns="10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99" name=""/>
                            <p:cNvSpPr/>
                            <p:nvPr/>
                          </p:nvSpPr>
                          <p:spPr>
                            <a:xfrm>
                              <a:off x="8720280" y="5156640"/>
                              <a:ext cx="1800" cy="579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160" bIns="11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0" name=""/>
                            <p:cNvSpPr/>
                            <p:nvPr/>
                          </p:nvSpPr>
                          <p:spPr>
                            <a:xfrm>
                              <a:off x="8742600" y="5156640"/>
                              <a:ext cx="1800" cy="579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160" bIns="11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8263800" y="4957920"/>
                      <a:ext cx="428040" cy="1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1" h="17">
                          <a:moveTo>
                            <a:pt x="531" y="17"/>
                          </a:moveTo>
                          <a:lnTo>
                            <a:pt x="0" y="17"/>
                          </a:lnTo>
                          <a:lnTo>
                            <a:pt x="0" y="0"/>
                          </a:lnTo>
                          <a:lnTo>
                            <a:pt x="529" y="0"/>
                          </a:lnTo>
                          <a:lnTo>
                            <a:pt x="531" y="17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8227440" y="4648680"/>
                    <a:ext cx="490320" cy="317160"/>
                    <a:chOff x="8227440" y="4648680"/>
                    <a:chExt cx="490320" cy="317160"/>
                  </a:xfrm>
                </p:grpSpPr>
                <p:grpSp>
                  <p:nvGrpSpPr>
                    <p:cNvPr id="303" name=""/>
                    <p:cNvGrpSpPr/>
                    <p:nvPr/>
                  </p:nvGrpSpPr>
                  <p:grpSpPr>
                    <a:xfrm>
                      <a:off x="8384040" y="4677840"/>
                      <a:ext cx="333720" cy="277560"/>
                      <a:chOff x="8384040" y="4677840"/>
                      <a:chExt cx="333720" cy="277560"/>
                    </a:xfrm>
                  </p:grpSpPr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8384040" y="4677840"/>
                        <a:ext cx="333720" cy="27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3" h="321">
                            <a:moveTo>
                              <a:pt x="0" y="321"/>
                            </a:moveTo>
                            <a:lnTo>
                              <a:pt x="396" y="321"/>
                            </a:lnTo>
                            <a:lnTo>
                              <a:pt x="408" y="313"/>
                            </a:lnTo>
                            <a:lnTo>
                              <a:pt x="413" y="293"/>
                            </a:lnTo>
                            <a:lnTo>
                              <a:pt x="413" y="30"/>
                            </a:lnTo>
                            <a:lnTo>
                              <a:pt x="411" y="8"/>
                            </a:lnTo>
                            <a:lnTo>
                              <a:pt x="399" y="0"/>
                            </a:lnTo>
                            <a:lnTo>
                              <a:pt x="0" y="0"/>
                            </a:lnTo>
                            <a:lnTo>
                              <a:pt x="0" y="32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05" name=""/>
                      <p:cNvGrpSpPr/>
                      <p:nvPr/>
                    </p:nvGrpSpPr>
                    <p:grpSpPr>
                      <a:xfrm>
                        <a:off x="8401320" y="4701960"/>
                        <a:ext cx="305280" cy="203760"/>
                        <a:chOff x="8401320" y="4701960"/>
                        <a:chExt cx="305280" cy="203760"/>
                      </a:xfrm>
                    </p:grpSpPr>
                    <p:grpSp>
                      <p:nvGrpSpPr>
                        <p:cNvPr id="306" name=""/>
                        <p:cNvGrpSpPr/>
                        <p:nvPr/>
                      </p:nvGrpSpPr>
                      <p:grpSpPr>
                        <a:xfrm>
                          <a:off x="8401320" y="4701960"/>
                          <a:ext cx="305280" cy="55800"/>
                          <a:chOff x="8401320" y="4701960"/>
                          <a:chExt cx="305280" cy="55800"/>
                        </a:xfrm>
                      </p:grpSpPr>
                      <p:grpSp>
                        <p:nvGrpSpPr>
                          <p:cNvPr id="307" name=""/>
                          <p:cNvGrpSpPr/>
                          <p:nvPr/>
                        </p:nvGrpSpPr>
                        <p:grpSpPr>
                          <a:xfrm>
                            <a:off x="8401320" y="4701960"/>
                            <a:ext cx="305280" cy="18000"/>
                            <a:chOff x="8401320" y="4701960"/>
                            <a:chExt cx="305280" cy="18000"/>
                          </a:xfrm>
                        </p:grpSpPr>
                        <p:sp>
                          <p:nvSpPr>
                            <p:cNvPr id="308" name=""/>
                            <p:cNvSpPr/>
                            <p:nvPr/>
                          </p:nvSpPr>
                          <p:spPr>
                            <a:xfrm>
                              <a:off x="8401320" y="4701960"/>
                              <a:ext cx="30384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9" name=""/>
                            <p:cNvSpPr/>
                            <p:nvPr/>
                          </p:nvSpPr>
                          <p:spPr>
                            <a:xfrm flipV="1">
                              <a:off x="8401320" y="4718520"/>
                              <a:ext cx="30528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10" name=""/>
                          <p:cNvGrpSpPr/>
                          <p:nvPr/>
                        </p:nvGrpSpPr>
                        <p:grpSpPr>
                          <a:xfrm>
                            <a:off x="8401320" y="4737960"/>
                            <a:ext cx="305280" cy="19800"/>
                            <a:chOff x="8401320" y="4737960"/>
                            <a:chExt cx="305280" cy="19800"/>
                          </a:xfrm>
                        </p:grpSpPr>
                        <p:sp>
                          <p:nvSpPr>
                            <p:cNvPr id="311" name=""/>
                            <p:cNvSpPr/>
                            <p:nvPr/>
                          </p:nvSpPr>
                          <p:spPr>
                            <a:xfrm>
                              <a:off x="8401320" y="4737960"/>
                              <a:ext cx="30384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2" name=""/>
                            <p:cNvSpPr/>
                            <p:nvPr/>
                          </p:nvSpPr>
                          <p:spPr>
                            <a:xfrm flipV="1">
                              <a:off x="8401320" y="4756320"/>
                              <a:ext cx="30528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13" name=""/>
                        <p:cNvGrpSpPr/>
                        <p:nvPr/>
                      </p:nvGrpSpPr>
                      <p:grpSpPr>
                        <a:xfrm>
                          <a:off x="8403120" y="4776120"/>
                          <a:ext cx="303480" cy="54000"/>
                          <a:chOff x="8403120" y="4776120"/>
                          <a:chExt cx="303480" cy="54000"/>
                        </a:xfrm>
                      </p:grpSpPr>
                      <p:grpSp>
                        <p:nvGrpSpPr>
                          <p:cNvPr id="314" name=""/>
                          <p:cNvGrpSpPr/>
                          <p:nvPr/>
                        </p:nvGrpSpPr>
                        <p:grpSpPr>
                          <a:xfrm>
                            <a:off x="8403120" y="4776120"/>
                            <a:ext cx="303480" cy="18360"/>
                            <a:chOff x="8403120" y="4776120"/>
                            <a:chExt cx="303480" cy="18360"/>
                          </a:xfrm>
                        </p:grpSpPr>
                        <p:sp>
                          <p:nvSpPr>
                            <p:cNvPr id="315" name=""/>
                            <p:cNvSpPr/>
                            <p:nvPr/>
                          </p:nvSpPr>
                          <p:spPr>
                            <a:xfrm>
                              <a:off x="8403120" y="4776120"/>
                              <a:ext cx="30348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6" name=""/>
                            <p:cNvSpPr/>
                            <p:nvPr/>
                          </p:nvSpPr>
                          <p:spPr>
                            <a:xfrm flipV="1">
                              <a:off x="8403120" y="4793040"/>
                              <a:ext cx="30348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17" name=""/>
                          <p:cNvGrpSpPr/>
                          <p:nvPr/>
                        </p:nvGrpSpPr>
                        <p:grpSpPr>
                          <a:xfrm>
                            <a:off x="8403120" y="4811760"/>
                            <a:ext cx="303480" cy="18360"/>
                            <a:chOff x="8403120" y="4811760"/>
                            <a:chExt cx="303480" cy="18360"/>
                          </a:xfrm>
                        </p:grpSpPr>
                        <p:sp>
                          <p:nvSpPr>
                            <p:cNvPr id="318" name=""/>
                            <p:cNvSpPr/>
                            <p:nvPr/>
                          </p:nvSpPr>
                          <p:spPr>
                            <a:xfrm>
                              <a:off x="8403120" y="4811760"/>
                              <a:ext cx="30348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9" name=""/>
                            <p:cNvSpPr/>
                            <p:nvPr/>
                          </p:nvSpPr>
                          <p:spPr>
                            <a:xfrm flipV="1">
                              <a:off x="8403120" y="4828320"/>
                              <a:ext cx="30348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20" name=""/>
                        <p:cNvGrpSpPr/>
                        <p:nvPr/>
                      </p:nvGrpSpPr>
                      <p:grpSpPr>
                        <a:xfrm>
                          <a:off x="8401320" y="4848480"/>
                          <a:ext cx="305280" cy="57240"/>
                          <a:chOff x="8401320" y="4848480"/>
                          <a:chExt cx="305280" cy="57240"/>
                        </a:xfrm>
                      </p:grpSpPr>
                      <p:grpSp>
                        <p:nvGrpSpPr>
                          <p:cNvPr id="321" name=""/>
                          <p:cNvGrpSpPr/>
                          <p:nvPr/>
                        </p:nvGrpSpPr>
                        <p:grpSpPr>
                          <a:xfrm>
                            <a:off x="8401320" y="4848480"/>
                            <a:ext cx="305280" cy="18000"/>
                            <a:chOff x="8401320" y="4848480"/>
                            <a:chExt cx="305280" cy="18000"/>
                          </a:xfrm>
                        </p:grpSpPr>
                        <p:sp>
                          <p:nvSpPr>
                            <p:cNvPr id="322" name=""/>
                            <p:cNvSpPr/>
                            <p:nvPr/>
                          </p:nvSpPr>
                          <p:spPr>
                            <a:xfrm>
                              <a:off x="8401320" y="4848480"/>
                              <a:ext cx="30384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3" name=""/>
                            <p:cNvSpPr/>
                            <p:nvPr/>
                          </p:nvSpPr>
                          <p:spPr>
                            <a:xfrm flipV="1">
                              <a:off x="8401320" y="4865040"/>
                              <a:ext cx="30528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4" name=""/>
                          <p:cNvGrpSpPr/>
                          <p:nvPr/>
                        </p:nvGrpSpPr>
                        <p:grpSpPr>
                          <a:xfrm>
                            <a:off x="8401320" y="4885920"/>
                            <a:ext cx="305280" cy="19800"/>
                            <a:chOff x="8401320" y="4885920"/>
                            <a:chExt cx="305280" cy="19800"/>
                          </a:xfrm>
                        </p:grpSpPr>
                        <p:sp>
                          <p:nvSpPr>
                            <p:cNvPr id="325" name=""/>
                            <p:cNvSpPr/>
                            <p:nvPr/>
                          </p:nvSpPr>
                          <p:spPr>
                            <a:xfrm>
                              <a:off x="8401320" y="4885920"/>
                              <a:ext cx="30384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6" name=""/>
                            <p:cNvSpPr/>
                            <p:nvPr/>
                          </p:nvSpPr>
                          <p:spPr>
                            <a:xfrm flipV="1">
                              <a:off x="8401320" y="4903920"/>
                              <a:ext cx="30528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327" name=""/>
                    <p:cNvGrpSpPr/>
                    <p:nvPr/>
                  </p:nvGrpSpPr>
                  <p:grpSpPr>
                    <a:xfrm>
                      <a:off x="8227440" y="4648680"/>
                      <a:ext cx="154440" cy="317160"/>
                      <a:chOff x="8227440" y="4648680"/>
                      <a:chExt cx="154440" cy="317160"/>
                    </a:xfrm>
                  </p:grpSpPr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8227440" y="4648680"/>
                        <a:ext cx="154440" cy="30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2" h="356">
                            <a:moveTo>
                              <a:pt x="192" y="0"/>
                            </a:moveTo>
                            <a:lnTo>
                              <a:pt x="192" y="356"/>
                            </a:lnTo>
                            <a:lnTo>
                              <a:pt x="13" y="356"/>
                            </a:lnTo>
                            <a:lnTo>
                              <a:pt x="6" y="353"/>
                            </a:lnTo>
                            <a:lnTo>
                              <a:pt x="1" y="343"/>
                            </a:lnTo>
                            <a:lnTo>
                              <a:pt x="0" y="333"/>
                            </a:lnTo>
                            <a:lnTo>
                              <a:pt x="0" y="20"/>
                            </a:lnTo>
                            <a:lnTo>
                              <a:pt x="3" y="10"/>
                            </a:lnTo>
                            <a:lnTo>
                              <a:pt x="9" y="2"/>
                            </a:lnTo>
                            <a:lnTo>
                              <a:pt x="17" y="0"/>
                            </a:lnTo>
                            <a:lnTo>
                              <a:pt x="192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>
                        <a:off x="8359560" y="4650480"/>
                        <a:ext cx="1440" cy="315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sa And MasterCard Have Abused The Power To Fix Interchange In The U.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a has raised its base credit card rate by 64% since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Card has raised its base credit card rate by 49% since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se Increases Cannot Be Cost Justif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ud – down 67% since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funds – down 80% since 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tantial increase in credit card volume since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hardware, processing and tele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Rates Are Amongst The Highest In The Wor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U.S. Nex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ederal Reserve Examines Inter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dividual Merchant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rchant Class Ac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800600" y="2971800"/>
            <a:ext cx="3962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hesion Of Visa And MasterCard Associations In The U.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divisions between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issu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line credit card issu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al and smaller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label issu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core loyalists vs. banks that are hedging their b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U.S. Banks Like About The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menu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incentives (big ban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nterchange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affinity/co-brand deals (monol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 cost of investing in new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nding on brand (monol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omplaints of U.S. Member/Owner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 brands compete with thei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s and dues are used to benefit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a and MasterCard associations are too bureaucratic and in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any legal probl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 laws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alian Reserve Bank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K. Office of Fair Tr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s of interchange by oth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MCj02155410000[1]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5812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Problems Can be Sub-Divided into 3 Broad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hip ru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acceptance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MCj02871770000[1]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32763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hip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Justice Department suit-result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alidation of Visa by-law 2.10(e) and MasterCard Competitive Programs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judicial findings, including Visa and MasterCard’s joint and individual market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damages lawsuits from American Express and Morgan Stanley/Dis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gan Stanley challenge to Visa membership rules in Europe result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ust 2004 statement of objections by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hant Acceptance Pract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or All Card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.S. Merchant Honor All Cards class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 examination of Honor All Cards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-surcharg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alidated by Australian Reserve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hant Dissatisfaction Conti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of new premium card products in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back rules and 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.S. Merchant Challenge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or All Card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a/MC Honor All Cards rules illegally tied debit card acceptance to credit card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a (alone and together with MC) used the tying arrangements to monopolize the debit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095880" y="1447920"/>
          <a:ext cx="289584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447920"/>
                    <a:ext cx="289584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21:28:01Z</dcterms:created>
  <dc:creator>mcantor</dc:creator>
  <dc:description/>
  <dc:language>en-US</dc:language>
  <cp:lastModifiedBy>astavroulakis</cp:lastModifiedBy>
  <cp:lastPrinted>2004-04-21T15:29:37Z</cp:lastPrinted>
  <dcterms:modified xsi:type="dcterms:W3CDTF">2005-05-06T16:40:08Z</dcterms:modified>
  <cp:revision>358</cp:revision>
  <dc:subject/>
  <dc:title>Role of Antitrust</dc:title>
</cp:coreProperties>
</file>